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57.jpeg" ContentType="image/jpeg"/>
  <Override PartName="/ppt/media/image20.wmf" ContentType="image/x-wmf"/>
  <Override PartName="/ppt/media/image48.png" ContentType="image/png"/>
  <Override PartName="/ppt/media/image9.jpeg" ContentType="image/jpeg"/>
  <Override PartName="/ppt/media/image11.png" ContentType="image/png"/>
  <Override PartName="/ppt/media/image29.wmf" ContentType="image/x-wmf"/>
  <Override PartName="/ppt/media/image6.jpeg" ContentType="image/jpeg"/>
  <Override PartName="/ppt/media/image5.gif" ContentType="image/gif"/>
  <Override PartName="/ppt/media/image13.jpeg" ContentType="image/jpeg"/>
  <Override PartName="/ppt/media/image49.png" ContentType="image/png"/>
  <Override PartName="/ppt/media/image12.png" ContentType="image/png"/>
  <Override PartName="/ppt/media/image58.jpeg" ContentType="image/jpeg"/>
  <Override PartName="/ppt/media/image14.wmf" ContentType="image/x-wmf"/>
  <Override PartName="/ppt/media/image1.jpeg" ContentType="image/jpeg"/>
  <Override PartName="/ppt/media/image2.jpeg" ContentType="image/jpeg"/>
  <Override PartName="/ppt/media/image18.wmf" ContentType="image/x-wmf"/>
  <Override PartName="/ppt/media/image61.jpeg" ContentType="image/jpeg"/>
  <Override PartName="/ppt/media/image40.png" ContentType="image/png"/>
  <Override PartName="/ppt/media/image7.jpeg" ContentType="image/jpeg"/>
  <Override PartName="/ppt/media/image4.png" ContentType="image/png"/>
  <Override PartName="/ppt/media/image16.png" ContentType="image/png"/>
  <Override PartName="/ppt/media/image60.jpeg" ContentType="image/jpeg"/>
  <Override PartName="/ppt/media/image24.wmf" ContentType="image/x-wmf"/>
  <Override PartName="/ppt/media/image27.wmf" ContentType="image/x-wmf"/>
  <Override PartName="/ppt/media/image21.jpeg" ContentType="image/jpeg"/>
  <Override PartName="/ppt/media/image32.wmf" ContentType="image/x-wmf"/>
  <Override PartName="/ppt/media/image59.jpeg" ContentType="image/jpeg"/>
  <Override PartName="/ppt/media/image3.gif" ContentType="image/gif"/>
  <Override PartName="/ppt/media/image22.gif" ContentType="image/gif"/>
  <Override PartName="/ppt/media/image15.png" ContentType="image/png"/>
  <Override PartName="/ppt/media/image19.wmf" ContentType="image/x-wmf"/>
  <Override PartName="/ppt/media/image17.png" ContentType="image/png"/>
  <Override PartName="/ppt/media/image23.gif" ContentType="image/gif"/>
  <Override PartName="/ppt/media/image26.png" ContentType="image/png"/>
  <Override PartName="/ppt/media/image8.jpeg" ContentType="image/jpeg"/>
  <Override PartName="/ppt/media/image10.jpeg" ContentType="image/jpeg"/>
  <Override PartName="/ppt/media/image55.jpeg" ContentType="image/jpeg"/>
  <Override PartName="/ppt/media/image28.wmf" ContentType="image/x-wmf"/>
  <Override PartName="/ppt/media/image31.jpeg" ContentType="image/jpeg"/>
  <Override PartName="/ppt/media/image33.wmf" ContentType="image/x-wmf"/>
  <Override PartName="/ppt/media/image52.jpeg" ContentType="image/jpeg"/>
  <Override PartName="/ppt/media/image34.wmf" ContentType="image/x-wmf"/>
  <Override PartName="/ppt/media/image35.wmf" ContentType="image/x-wmf"/>
  <Override PartName="/ppt/media/image36.wmf" ContentType="image/x-wmf"/>
  <Override PartName="/ppt/media/image47.jpeg" ContentType="image/jpeg"/>
  <Override PartName="/ppt/media/image25.wmf" ContentType="image/x-wmf"/>
  <Override PartName="/ppt/media/image37.wmf" ContentType="image/x-wmf"/>
  <Override PartName="/ppt/media/image39.png" ContentType="image/png"/>
  <Override PartName="/ppt/media/image41.png" ContentType="image/png"/>
  <Override PartName="/ppt/media/image42.png" ContentType="image/png"/>
  <Override PartName="/ppt/media/image43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50.jpeg" ContentType="image/jpeg"/>
  <Override PartName="/ppt/media/image51.jpeg" ContentType="image/jpeg"/>
  <Override PartName="/ppt/media/image53.jpeg" ContentType="image/jpeg"/>
  <Override PartName="/ppt/media/image30.gif" ContentType="image/gif"/>
  <Override PartName="/ppt/media/image54.jpeg" ContentType="image/jpeg"/>
  <Override PartName="/ppt/media/image5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48F-889C-43D7-907E-628D7824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386B-CBC2-4D17-B218-7EBFD8F9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DAF89-FBDC-4E06-8B94-70880474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C8127-7E21-42EF-8F54-7A900A8C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5E7D9-6562-4D69-8F71-0EEBD693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117C8-8279-4C06-B343-9E974BA4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1B0FA-6F20-4004-9BAA-D77C5352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31376-4F4B-42E6-BFA7-5E903983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12380-82F5-443E-84F1-C0496F14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FBC3A-BC84-41C5-87F0-A4E808F1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81274-A128-4304-8890-5C4010732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0538D-D3B3-4A07-AC4D-8971A809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584-1963-492E-AE37-BB8E8ED7D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AD868-F1D8-4A5C-95F1-9F82161A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B0159C-F952-4597-833F-74ADF62C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6CA0A-5B09-4A22-BD74-B0965C42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BA559-ABEB-4074-91F6-3C2E729C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EAC045-E02E-43B8-8022-2E013F1F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0D013-7F37-4D19-89A6-3F6C2FD2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8AA92-4BD8-4622-8879-6CB64315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3D3C9D-6DE6-4105-9AE5-9A4020AF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1697B-8A90-49BA-9622-3019BA63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84B3D-9C2C-4E9A-95D8-4B2E9DF8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3D9-4EE1-4E42-B34B-24E44F506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DFCF32-423C-49E7-B834-C83D3EA4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27187-D8CA-4D89-9818-0B0F85B6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8C703-FD71-4DBD-B51A-D4B4A3ED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D9548-7EAD-4127-8F92-9168BF90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3797C-8DB0-409D-ACA5-F644415A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19C75-415B-4988-A962-BF319711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D9683-916F-478B-8C78-D779833A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265B3-D56B-4663-B199-5F05C4C2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F6A18-2409-4C87-A8A1-45A858EF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4B580-142A-4C63-BEC1-5462F82F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2067-1F88-4D3F-AB41-0B101299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DD9D83-55FD-4B62-AD14-DCFEB99C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E0514-A1FE-41EB-AA13-E7806206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A3D5D-5BCA-4A6C-BA0C-E8A3A591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DA2FA-6F4C-4E6F-93E8-E6BA4CFD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2AEFF-98A2-4D15-82B5-E5FA62CC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FC0EF-A21C-4804-B23E-A30EA1CD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E8141-AA64-49B0-B371-77C814C2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4CCCC-19F0-47D3-A9B5-189E153B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B018B-C35F-4EC7-9EB9-042A07B2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38417-3413-46C5-91CA-E2ACE21A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81A2-9B42-4046-BFA8-FB317240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64D1C-6D6B-4D65-B97B-259272FB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FD27D-171C-4194-A315-BB156B4B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EFCAA-7998-45D9-B0AF-19DEE4B6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25E9C-487A-4A84-9B4B-79D30450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5C3BD-42D5-4081-ABBF-9702D638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FD97C-1B5D-445F-A599-8579B335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2A9022-A00B-4CB8-938A-B5AA044F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72747A-94E0-47D5-89ED-6DA974B4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93392-8967-4098-8B5B-05B31A3D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1A810-3DC9-4459-894B-C194B80F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B7AE-06FF-427D-9BDB-C8177198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0ABDC-50C5-4CAF-8749-96B9465F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4F56F9-E4DA-4AD1-819A-1BDBE6C6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05B12-0786-40D9-A13F-C8FF9D96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A392AD-AB78-49B4-887A-B128A14A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A09E2-3F7F-464B-8D94-AC954660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9B001-7687-4E82-8E65-D08F4629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8C393-A880-49AF-A4AC-A259AC35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934AF-D829-4E60-BBC7-641DD677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87CF3-3EFE-4227-BE58-58EAB601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486214-333E-45ED-B305-C5A49EEB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024B-B225-468D-9E30-1F0C0D5F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E3FF76-B600-43C9-918D-52962E36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97389-3A4B-48B1-A571-E5BAA25E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D8476-DAB6-4F67-B8FC-76F24FB0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41F46C-4858-4E64-8A44-8878F0CD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C010F7-D5C5-4580-89DE-AC1E92D8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902FD3-A292-467D-BF02-8A3C3415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043E9E-C8FE-41CC-9E8F-6D09AC14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6489EC-2B12-48CF-B9EB-898A1859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FEE16B-DD5C-452A-A3E0-29400BBE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815586-2AB4-4965-9CCB-F0ECA980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FDAF-79B7-4486-B678-1026CD2B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7E94C3-6475-44C5-BF2C-BBC52AD1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B3DB0D-B84E-425F-8AF1-ED3A8042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7F6F97-420E-4B67-B9B9-29ED6E3F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17DAE-EC02-4750-93E0-94334EB3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CE1650-DF36-4858-B0A8-147551D55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D776EB-FF97-4326-86B0-E391372A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3980F8-A458-46BD-AED3-5B6731EF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09821B-FD23-4F23-8413-DD31D5F6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A670D7-118F-4DEB-914F-153D9D91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431CD3-D767-4D32-BFC2-A52B98A0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7821-1F91-463E-93C3-6307C178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4A414D-02C6-4B04-9188-B6169575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C40CE0-404A-4637-B5BE-AFB593C9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C43490-CCD3-4AFB-8A21-6C70C11F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861973-F857-43AE-966A-DE111AA7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268A92-1864-48CE-A8E4-80BAC08F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B3B7E9-494B-430A-AAA0-283536C3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3BE743-E5FC-45C0-AF99-8D6B4743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861D3E-322A-4225-AF4A-B31D42CB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6F958B-4DF8-42AF-A535-A02FF9C5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D970F5-E289-4741-BA57-421FC86E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E2A1-3B0D-45CE-B956-4C7262FD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06651-84B1-4168-B1B1-FDDA20BC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A162D8-02AF-4CD9-B49E-B302D945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604798-5B79-4D59-91F9-171BE3C1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992DA8-8916-45D8-8BC7-071BB9EF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2262E1-CD2A-4E2C-B661-5B5D7DBF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9F921F-FEDD-4040-9F03-344D6FE4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A27AD0-A5CD-4B04-84A5-28FA1C89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A9BFDF-707A-4B0B-A8AD-2F108125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41F215-C18F-482B-B674-439ACBAF5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DF0D90-F2C1-4E25-87A2-7636390B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0AC0-E761-4590-9C7E-A05FB526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9061-B1F5-4AAD-8B4D-BAA384DA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AA152B-8FF5-4141-AC4C-421E725F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F46DA4-C661-4457-9CBF-44ED7BEE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89D668-E26E-4FB4-9712-5522875E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4411EF-DDCF-4D30-BC03-8A6BD2F7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A2293-CF12-4FCD-AE1E-EF31FC42D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3EEB3F-6C05-43DB-8612-EF58BAF44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30E799-8AA8-4E4D-8147-2FB9D359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9DC289-308C-4736-9873-443B22B1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7DD225-742F-4C5E-ADE9-B025FE4A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C54E20-F42A-4440-8FA9-C5827BDF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D8E1-FCAC-49E0-8952-B3825357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8674EE-7293-414D-9B81-0D77A0C7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81550C-0874-4501-B0CA-1D1F7828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7795C7-A743-475E-867D-61E09488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6EB726-C9A4-43F1-B66F-5A7FDC38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54D5AC-CF13-4392-856B-AAA27A72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53F523-9EBF-4D8A-93F8-7E85BDEA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099232-5930-4743-82F3-154F1508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09C447-F9FD-4A05-852C-7C230D94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F701A6-6469-492D-B3A3-EBA0FD01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C00773-1166-4345-9F1A-BDF85F57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E7FF-617E-4959-A499-09B00A3E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5EB869-211D-49A8-963F-4B16E040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CD74DF-DD26-4267-8B70-6A8E9D77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3ECB02-61CA-42B3-80E0-2C38C464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358EAF-8F24-4FEA-8C28-56149AD6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25EB48-DA89-4B5E-BDEF-1BD44EE7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B6AAFD-6C55-4080-9D8E-A6A34C8B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4458D8-FCF9-48AD-A3BE-328BFE9C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D06CC8-B21D-41C1-97C0-090D03F2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E135A9-7036-43CD-B88D-C8E9FD78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C6517C-3BB8-4FFF-88FF-413E4E02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5F16-012E-4F7B-95BE-E8A4C7BE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2F856A-4ED4-498E-9EC1-80798A47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12C557-548C-42B2-AE01-597E9E46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2B08DE-4874-417C-A6C2-EBE18D51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2AF531-ED56-4074-969D-A0EA04CD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1B655C-FB17-4DEE-9FCB-A62D5EA7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15E4D7-4A92-47F6-AFC9-AC3DB465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598EA9-F178-4123-97DC-F33BF765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D2EE38-C584-4810-B226-8C9006F3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4E817B-C694-4008-8AF8-341592EF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ED0B27-2F4F-484D-BAE1-8B85AE86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9D4D-79B3-47E8-9F39-96D0CFDF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431E7E-1418-4BE9-882F-D122646F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A9686F-E68C-404E-97F3-51AC2D53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A3BA9D-D4E0-4309-9BC8-EFF9E13C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68F8C1-9CDC-47DB-9472-319616FA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45F5BF-1F84-4E80-B792-AF3DAA12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21C652-66AA-4047-9C38-E51F5587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5CD336-92FB-4779-ADDD-DA4F3DFB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7622DC-C306-4007-8530-5D1D86C2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37AA7F-04EF-4596-8D17-C7CFD199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D833DA-A333-4784-91B9-537F5423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4FB66-798F-4181-8AA5-679F1B20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138B58-8C9E-4E0C-9E7D-B04D4D7E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9B72A1-F426-45C1-97EE-A1D5532C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6B96E7-F38E-41AC-8C3F-B04A8910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02DFC7-553B-464C-890A-15F7C7E37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D91CF2-13A9-4D37-81D9-29FDDE96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4AA218-4C6F-4A76-B4A4-4D606215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B8CC3F-499C-44F4-8781-FDDABBE6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B91517-021C-4710-AE08-FE0518AC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D2A741-EDCF-4EB0-AACD-86AC39A9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173849-E9DC-4F10-964B-29F17B66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B0F70D-7D6B-425F-BDF6-4CC11094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F8EC4E-7633-487C-A608-C6731A96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0270DF-8929-4CCB-AE9C-94F8C5B9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969B62-4323-46B3-BDC0-C74C2EED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A7460B-9572-476D-A0A5-6EAB22F7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825218-23C7-42CA-887A-3C5158BF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1F621B-A584-42A2-B0FA-3CDD9DE1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A5DCD0-1235-43C1-B5B3-DEED448B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9E855F-D864-43B1-826E-4CA28099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47E4E6-AD56-44EB-B506-385FB07E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C862FD-DA7F-407F-B332-C86ED2C7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BA2D8-5048-45E0-83E5-7069BBCF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257DF4-C622-43E8-99BB-408B3A2D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07D931-C0FA-443B-A914-3C7252E2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B1ADE5-9169-476A-946C-C92F74DC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8EA906-761E-4F4F-B76E-AEFAF868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3B9757-FD0D-43D5-A723-D8C3AE6C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B43527-EE72-4919-9995-9CD8F699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1ED2AC-5D69-4029-A591-72979C83B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4BF226-D7A6-4B07-8521-1D581638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2B050E-7D31-453F-94DA-E65B2A81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94F81B-8EC4-4157-AA12-6B3C8DCE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C5ED4-2344-463F-A640-603F7F05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4FC151-8F2A-4A01-9714-6AFF80D1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EE932F-8E23-4383-A627-D764710B9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3747B4-8C54-4EAC-BE9B-7F05C7EA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BE6976-CE16-4EAF-B511-D372942A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CFCA47-50EF-495D-91B3-FF36AE2A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467228-26CA-43DF-93AB-CA735DB2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A4BD8E-B73C-4B7C-BAC6-C4FA7902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050723-ADEE-48D9-A8B8-9D3BE3B73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996F38-1639-4ACA-A7BB-96D693F8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1EAF6B-B037-4A3D-B5F3-749712BA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83A72-0AAA-44E9-B5CE-A6157EEB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9F0099-2138-4AF1-9B60-83EECC17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CD8A25-7792-40D4-8B82-3ADEAE0E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9403151-E712-4C95-9F3F-230B48FB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68BFE0-659A-4A9A-AF07-4F92E537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01D8A2-CA8E-485E-A26F-F075F8A9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8EA93A-D807-4442-A41A-2C19B533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CCCC8D-798C-426E-9D3F-9D0C5E1A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2E2FE4-A614-44FE-9969-B961E537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083B37-E80E-4C42-A705-6368A860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8799C6-C4CF-4511-AE0B-DAF84304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855-7EB1-48E1-9FCA-C0C825D0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1A110-DA7B-4691-AE9C-8DF2025A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CA283D-301B-4DBD-8410-1C6CCC1C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C9270-9BEA-4844-A425-0CA88987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762ADE-E618-4991-BC80-E1657EDF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DC231-BC6C-4488-B33E-205ECA0D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375CA-E979-43E1-81F8-F94C734F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936BF-6E8D-4FF6-B064-03FE77EA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28922D-70DA-4565-B4F7-D9E15915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50453-DA81-4505-9272-7175AAC1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A91E4-F4D0-4F2A-8DDE-BC597EB9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D6E7F-8779-4471-98C4-5E76A236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FAFE-D78C-4656-BD4B-D3FDAE34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31F4C-BC29-4BEC-A47E-1071F4A8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91351-83D4-4C7D-8732-670FC516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B5D62-A2DB-4A98-B97D-1D2BFD7A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ECFE9-3F03-4250-B2B5-3E37A553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8D71A-6AF7-444E-A898-A0B8AEAB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CC1B3-670C-4A54-933A-2275A7D4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02DEF-C928-416D-B505-77BD990F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22218-19BD-40BC-94E4-47C7FAF4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8DDBC-8EC6-4E82-8A2D-32DDE0DE3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408C0-1CFD-475E-A99C-88ED830A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B5DD-D9DE-456D-987D-87741AA9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0E731-2CE1-499B-9E2F-54CA31B57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14E2E-F4A0-4CFC-9F3E-155D24F5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FFDCF-ED21-45AF-8880-A0E81B61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462F8-2AE0-4618-91BE-FC2F7840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54788-92F1-475C-96BF-A1CDC449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9D0EF-4AA8-44F5-8260-6826F56C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15701-8194-41F7-9313-EE2DEAFE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6DBB8-C4FF-470B-AA19-802ABE0A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15E57-D50F-42C1-974E-04B5F887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1B35F-7F05-4289-B4AA-9057B0A8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73B1-999C-444D-A2CA-4BD754EC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9AADB-4222-4E86-AFBB-0C36324F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1CC7B-9925-413C-8AF5-88AD0974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6C5C5-66EE-42D9-859F-95B6B4AA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C3EF3-4AA8-4DC7-BC57-790F2A22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7D687-0C1C-476B-AE77-0A618D7B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B554A-08CB-437E-A3A0-B47B6578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216C5-4C26-4A6E-9B67-A9A80B96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66DB4-D681-44FD-8470-215F0A79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DF5BF-6C22-4D8C-840F-BE97A23B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7ABA3-21F1-4F5B-8FA5-3F246CC8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05F-C0B6-4C55-A45B-45EFC3AC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B37FE-21A0-47B2-812E-69250151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27168-EAA5-4AFE-B714-B39BF805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188AA-98B4-4D01-AE8F-6CC05055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E5012-7A32-4EAA-8010-3055C0C62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98417-F440-4D58-97FA-4A861ABE6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2D900-D773-4920-A857-D6040B50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8F1FB-766F-4656-B91E-D3EA3C44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76A00-F5E3-4CE3-874A-1DEED397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2DD9C-2ECE-44AD-A2B0-D2EF593E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39071-C21E-4F2E-9A7F-46BB7862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5A8-094D-427D-AE2A-DF6893C6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741A2-9053-4435-AC8E-92795D3A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CE726-CAB3-4AA7-82A5-5787140A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E3911-5863-43C8-8AB1-E3283824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820CF-47ED-4AB1-9C08-D01F9C84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28847-9F72-4648-81EB-09D94E46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30B6B-0FE2-4AAE-8412-DE509DCA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FE179-8DB3-4EF4-85E3-05CB2F6F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0F75A-3C03-46C2-B7D6-D81678CA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5CAF7-DA73-40E8-9537-D9291744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B62B0-03A7-488E-9D4F-B26253AF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EB33-4380-4024-A689-B2BEA384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C7F8A-A0C7-427F-92A2-1EED3D3D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B9B2B-0D0C-4635-A7D7-7BEB6191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E52AE-75B6-4AB0-8A75-1EE5208E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99347-42C6-473D-A97E-2CD49D5A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460D2-9F75-4275-9D5B-8E36AE4D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7C629-899F-44B5-8269-264C6F92F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6B4F2-0344-4231-A990-535BF5A3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0A3E1-600C-47B0-98F7-0EFB88B76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D5F12-C308-4E95-BF92-65D98BAF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40AC6-09C0-4828-AE55-3D351DF6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5f5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7DA8-1CD3-4022-A8D0-85FCBE3804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0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D2BE-6A5B-467E-941F-56C185B326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5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31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ftr" idx="32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0951-1A13-4D39-BD9C-33C6BC3B8C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99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00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03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ECD7-60B2-460B-9F97-3F9B8BC1A2D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6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47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PlaceHolder 1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sldNum" idx="3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BC95-7A0F-4F76-9442-37A68001471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4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C304-C24C-4C08-84D4-E0AB39DDEDC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98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E6D4-2FC0-49C0-B5E1-0B45C7E115CB}" type="slidenum"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745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788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8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B5A8-702E-4E0E-8A95-F4019AF5155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dt" idx="4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sldNum" idx="5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B2AE-9F55-4C17-9A8B-E58E78C4D8D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873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2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3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5335-CC54-478F-8CC8-C8338E7C9E8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7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918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dt" idx="55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ftr" idx="56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sldNum" idx="57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C724-88F9-4CC5-B9F9-2A6AB588F79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5f5f5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5f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55DB-ABF4-4C1F-A74D-26589F326AB9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96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96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99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d5c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02A6-5EA2-4E28-95A9-E691F38D2E8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8be6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d4f4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d6d5c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c0c64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86b5d"/>
            </a:gs>
            <a:gs pos="100000">
              <a:srgbClr val="28292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04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04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86b5d"/>
                  </a:gs>
                  <a:gs pos="100000">
                    <a:srgbClr val="45473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4c4e44"/>
                </a:gs>
                <a:gs pos="100000">
                  <a:srgbClr val="2e2f2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686b5d"/>
                </a:gs>
                <a:gs pos="100000">
                  <a:srgbClr val="61645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686b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6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4c4e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6d5c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6d5c6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3B59-D63C-4F01-B2A0-69E6F653EB4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6F19-CB84-47A7-A1D9-4428EEE828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123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7EC7-B148-40F1-AAA3-2992C91025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96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C22C-6C94-476D-9321-6136BA18BEA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7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8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28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28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9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9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0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0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0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30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3B61-85D2-4D6E-A2AE-3C51996E1D5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6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36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36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37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7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f4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8E10-1830-4ADC-9B5B-F44E021729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d4f4ae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d4f4ae"/>
                </a:gs>
                <a:gs pos="100000">
                  <a:srgbClr val="33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f4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0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d4f4ae"/>
                </a:gs>
                <a:gs pos="100000">
                  <a:srgbClr val="99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53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8187-9969-4FA5-ABAB-13C2B40C19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0546-352B-4714-94F3-1AE6CA3F79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246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0208-A356-495E-B8F2-566472B5FF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291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9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ftr" idx="20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71D0-E503-4973-9727-CCE7F3F386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336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38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343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349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2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353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357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361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9E52-2B35-4386-8FAE-710DB5D2720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420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421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435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439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443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447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451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2FC9-4DEA-4D34-A056-CE5B60BCD0E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25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8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0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29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28.wmf"/><Relationship Id="rId7" Type="http://schemas.openxmlformats.org/officeDocument/2006/relationships/image" Target="../media/image36.wmf"/><Relationship Id="rId8" Type="http://schemas.openxmlformats.org/officeDocument/2006/relationships/image" Target="../media/image37.wmf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14.wmf"/><Relationship Id="rId12" Type="http://schemas.openxmlformats.org/officeDocument/2006/relationships/image" Target="../media/image40.png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23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2.png"/><Relationship Id="rId10" Type="http://schemas.openxmlformats.org/officeDocument/2006/relationships/slideLayout" Target="../slideLayouts/slideLayout6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27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5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5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5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6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jpe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14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sp>
        <p:nvSpPr>
          <p:cNvPr id="1418" name=""/>
          <p:cNvSpPr txBox="1"/>
          <p:nvPr/>
        </p:nvSpPr>
        <p:spPr>
          <a:xfrm>
            <a:off x="838080" y="380880"/>
            <a:ext cx="76964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ЗБУКА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ДОРОВЬ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19" name="" descr=""/>
          <p:cNvPicPr/>
          <p:nvPr/>
        </p:nvPicPr>
        <p:blipFill>
          <a:blip r:embed="rId3"/>
          <a:stretch/>
        </p:blipFill>
        <p:spPr>
          <a:xfrm>
            <a:off x="3809880" y="4267080"/>
            <a:ext cx="1438560" cy="17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0b0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543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олезные и вредные продукты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8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2305080" cy="1447920"/>
          </a:xfrm>
          <a:prstGeom prst="rect">
            <a:avLst/>
          </a:prstGeom>
          <a:ln w="0">
            <a:noFill/>
          </a:ln>
        </p:spPr>
      </p:pic>
      <p:pic>
        <p:nvPicPr>
          <p:cNvPr id="1489" name="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2001960" cy="1782720"/>
          </a:xfrm>
          <a:prstGeom prst="rect">
            <a:avLst/>
          </a:prstGeom>
          <a:ln w="0">
            <a:noFill/>
          </a:ln>
        </p:spPr>
      </p:pic>
      <p:pic>
        <p:nvPicPr>
          <p:cNvPr id="1490" name="" descr=""/>
          <p:cNvPicPr/>
          <p:nvPr/>
        </p:nvPicPr>
        <p:blipFill>
          <a:blip r:embed="rId3"/>
          <a:stretch/>
        </p:blipFill>
        <p:spPr>
          <a:xfrm>
            <a:off x="5029200" y="5013360"/>
            <a:ext cx="1736640" cy="1844640"/>
          </a:xfrm>
          <a:prstGeom prst="rect">
            <a:avLst/>
          </a:prstGeom>
          <a:ln w="0">
            <a:noFill/>
          </a:ln>
        </p:spPr>
      </p:pic>
      <p:sp>
        <p:nvSpPr>
          <p:cNvPr id="1491" name=""/>
          <p:cNvSpPr/>
          <p:nvPr/>
        </p:nvSpPr>
        <p:spPr>
          <a:xfrm>
            <a:off x="152280" y="136944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Надо кушать помидоры,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Фрукты, овощи, лимоны,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Кашу – утром, суп – в обед,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А на ужин – винегр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362320" y="3121920"/>
            <a:ext cx="487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Ну, а если свой обед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Ты начнешь с кулька конфет,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Жвачкой импортной закусишь,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Шоколадом подсластиш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457200" y="4950720"/>
            <a:ext cx="449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33"/>
                </a:solidFill>
                <a:latin typeface="Times New Roman"/>
              </a:rPr>
              <a:t>То тогда наверняка</a:t>
            </a:r>
            <a:br>
              <a:rPr sz="2400"/>
            </a:br>
            <a:r>
              <a:rPr b="1" lang="en-US" sz="2400" spc="-1" strike="noStrike">
                <a:solidFill>
                  <a:srgbClr val="cccc33"/>
                </a:solidFill>
                <a:latin typeface="Times New Roman"/>
              </a:rPr>
              <a:t>Ваши спутники всегда -</a:t>
            </a:r>
            <a:br>
              <a:rPr sz="2400"/>
            </a:br>
            <a:r>
              <a:rPr b="1" lang="en-US" sz="2400" spc="-1" strike="noStrike">
                <a:solidFill>
                  <a:srgbClr val="cccc33"/>
                </a:solidFill>
                <a:latin typeface="Times New Roman"/>
              </a:rPr>
              <a:t>Близорукость, бледный вид</a:t>
            </a:r>
            <a:br>
              <a:rPr sz="2400"/>
            </a:br>
            <a:r>
              <a:rPr b="1" lang="en-US" sz="2400" spc="-1" strike="noStrike">
                <a:solidFill>
                  <a:srgbClr val="cccc33"/>
                </a:solidFill>
                <a:latin typeface="Times New Roman"/>
              </a:rPr>
              <a:t>И неважный аппет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952880" y="3805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«Соблюдай режим труда и быта, и будет здоровье крепче гранита»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693432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то жить умеет по часам и ценит каждый час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ого не надо по утрам будить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есять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он не станет говорить, что лень ему вста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рядку делать, руки мыт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стилать кр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спеет он одеться в срок, умыться и пое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 раньше, чем звенит звонок, 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рту в школе сесть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" descr=""/>
          <p:cNvPicPr/>
          <p:nvPr/>
        </p:nvPicPr>
        <p:blipFill>
          <a:blip r:embed="rId1"/>
          <a:stretch/>
        </p:blipFill>
        <p:spPr>
          <a:xfrm>
            <a:off x="0" y="5105520"/>
            <a:ext cx="21337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«Кто табачное зелье любит,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                    тот сам себя и губит!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536040" y="2236320"/>
            <a:ext cx="5457960" cy="36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Сигареты — никотин,</a:t>
            </a:r>
            <a:br>
              <a:rPr sz="2700"/>
            </a:b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ВРАГ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 всему номер один!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Курят, что аж дым столбом!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Отравляют табаком,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Не заботясь о здоровье —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Ни о своем, ни о чужом.</a:t>
            </a: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1" name="" descr=""/>
          <p:cNvPicPr/>
          <p:nvPr/>
        </p:nvPicPr>
        <p:blipFill>
          <a:blip r:embed="rId1"/>
          <a:stretch/>
        </p:blipFill>
        <p:spPr>
          <a:xfrm>
            <a:off x="5410080" y="2057400"/>
            <a:ext cx="31291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cc"/>
            </a:gs>
            <a:gs pos="50000">
              <a:srgbClr val="a0d060"/>
            </a:gs>
            <a:gs pos="100000">
              <a:srgbClr val="6600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4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419360" cy="4181400"/>
          </a:xfrm>
          <a:prstGeom prst="rect">
            <a:avLst/>
          </a:prstGeom>
          <a:ln w="0">
            <a:noFill/>
          </a:ln>
        </p:spPr>
      </p:pic>
      <p:sp>
        <p:nvSpPr>
          <p:cNvPr id="150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198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6" name="" descr=""/>
          <p:cNvPicPr/>
          <p:nvPr/>
        </p:nvPicPr>
        <p:blipFill>
          <a:blip r:embed="rId2"/>
          <a:stretch/>
        </p:blipFill>
        <p:spPr>
          <a:xfrm>
            <a:off x="3124080" y="1523880"/>
            <a:ext cx="1020960" cy="944640"/>
          </a:xfrm>
          <a:prstGeom prst="rect">
            <a:avLst/>
          </a:prstGeom>
          <a:ln w="0">
            <a:noFill/>
          </a:ln>
        </p:spPr>
      </p:pic>
      <p:pic>
        <p:nvPicPr>
          <p:cNvPr id="1507" name="" descr=""/>
          <p:cNvPicPr/>
          <p:nvPr/>
        </p:nvPicPr>
        <p:blipFill>
          <a:blip r:embed="rId3"/>
          <a:stretch/>
        </p:blipFill>
        <p:spPr>
          <a:xfrm>
            <a:off x="4572000" y="1295280"/>
            <a:ext cx="1146240" cy="1067040"/>
          </a:xfrm>
          <a:prstGeom prst="rect">
            <a:avLst/>
          </a:prstGeom>
          <a:ln w="0">
            <a:noFill/>
          </a:ln>
        </p:spPr>
      </p:pic>
      <p:pic>
        <p:nvPicPr>
          <p:cNvPr id="1508" name="" descr=""/>
          <p:cNvPicPr/>
          <p:nvPr/>
        </p:nvPicPr>
        <p:blipFill>
          <a:blip r:embed="rId4"/>
          <a:stretch/>
        </p:blipFill>
        <p:spPr>
          <a:xfrm>
            <a:off x="1676520" y="4876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509" name="" descr=""/>
          <p:cNvPicPr/>
          <p:nvPr/>
        </p:nvPicPr>
        <p:blipFill>
          <a:blip r:embed="rId5"/>
          <a:stretch/>
        </p:blipFill>
        <p:spPr>
          <a:xfrm>
            <a:off x="6324480" y="3048120"/>
            <a:ext cx="1114560" cy="1143000"/>
          </a:xfrm>
          <a:prstGeom prst="rect">
            <a:avLst/>
          </a:prstGeom>
          <a:ln w="0">
            <a:noFill/>
          </a:ln>
        </p:spPr>
      </p:pic>
      <p:pic>
        <p:nvPicPr>
          <p:cNvPr id="1510" name="" descr=""/>
          <p:cNvPicPr/>
          <p:nvPr/>
        </p:nvPicPr>
        <p:blipFill>
          <a:blip r:embed="rId6"/>
          <a:stretch/>
        </p:blipFill>
        <p:spPr>
          <a:xfrm>
            <a:off x="7772400" y="4114800"/>
            <a:ext cx="1090440" cy="971640"/>
          </a:xfrm>
          <a:prstGeom prst="rect">
            <a:avLst/>
          </a:prstGeom>
          <a:ln w="0">
            <a:noFill/>
          </a:ln>
        </p:spPr>
      </p:pic>
      <p:pic>
        <p:nvPicPr>
          <p:cNvPr id="1511" name="" descr=""/>
          <p:cNvPicPr/>
          <p:nvPr/>
        </p:nvPicPr>
        <p:blipFill>
          <a:blip r:embed="rId7"/>
          <a:stretch/>
        </p:blipFill>
        <p:spPr>
          <a:xfrm>
            <a:off x="6095880" y="4419720"/>
            <a:ext cx="1320840" cy="1164960"/>
          </a:xfrm>
          <a:prstGeom prst="rect">
            <a:avLst/>
          </a:prstGeom>
          <a:ln w="0">
            <a:noFill/>
          </a:ln>
        </p:spPr>
      </p:pic>
      <p:pic>
        <p:nvPicPr>
          <p:cNvPr id="1512" name="" descr=""/>
          <p:cNvPicPr/>
          <p:nvPr/>
        </p:nvPicPr>
        <p:blipFill>
          <a:blip r:embed="rId8"/>
          <a:stretch/>
        </p:blipFill>
        <p:spPr>
          <a:xfrm>
            <a:off x="5029200" y="5562720"/>
            <a:ext cx="914400" cy="871560"/>
          </a:xfrm>
          <a:prstGeom prst="rect">
            <a:avLst/>
          </a:prstGeom>
          <a:ln w="0">
            <a:noFill/>
          </a:ln>
        </p:spPr>
      </p:pic>
      <p:pic>
        <p:nvPicPr>
          <p:cNvPr id="1513" name="" descr="Здравствуй, лето!"/>
          <p:cNvPicPr/>
          <p:nvPr/>
        </p:nvPicPr>
        <p:blipFill>
          <a:blip r:embed="rId9"/>
          <a:stretch/>
        </p:blipFill>
        <p:spPr>
          <a:xfrm>
            <a:off x="5943600" y="205740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1514" name="" descr="День здоровья"/>
          <p:cNvPicPr/>
          <p:nvPr/>
        </p:nvPicPr>
        <p:blipFill>
          <a:blip r:embed="rId10"/>
          <a:stretch/>
        </p:blipFill>
        <p:spPr>
          <a:xfrm>
            <a:off x="3429000" y="5791320"/>
            <a:ext cx="914400" cy="838080"/>
          </a:xfrm>
          <a:prstGeom prst="rect">
            <a:avLst/>
          </a:prstGeom>
          <a:ln w="0">
            <a:noFill/>
          </a:ln>
        </p:spPr>
      </p:pic>
      <p:pic>
        <p:nvPicPr>
          <p:cNvPr id="1515" name="" descr=""/>
          <p:cNvPicPr/>
          <p:nvPr/>
        </p:nvPicPr>
        <p:blipFill>
          <a:blip r:embed="rId11"/>
          <a:stretch/>
        </p:blipFill>
        <p:spPr>
          <a:xfrm>
            <a:off x="1219320" y="3276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516" name="" descr=""/>
          <p:cNvPicPr/>
          <p:nvPr/>
        </p:nvPicPr>
        <p:blipFill>
          <a:blip r:embed="rId12"/>
          <a:stretch/>
        </p:blipFill>
        <p:spPr>
          <a:xfrm>
            <a:off x="8001000" y="54864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517" name="" descr=""/>
          <p:cNvPicPr/>
          <p:nvPr/>
        </p:nvPicPr>
        <p:blipFill>
          <a:blip r:embed="rId13"/>
          <a:stretch/>
        </p:blipFill>
        <p:spPr>
          <a:xfrm>
            <a:off x="1676520" y="2133720"/>
            <a:ext cx="1371600" cy="990360"/>
          </a:xfrm>
          <a:prstGeom prst="rect">
            <a:avLst/>
          </a:prstGeom>
          <a:ln w="0">
            <a:noFill/>
          </a:ln>
        </p:spPr>
      </p:pic>
      <p:sp>
        <p:nvSpPr>
          <p:cNvPr id="1518" name=""/>
          <p:cNvSpPr txBox="1"/>
          <p:nvPr/>
        </p:nvSpPr>
        <p:spPr>
          <a:xfrm>
            <a:off x="1066680" y="228600"/>
            <a:ext cx="76964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ы любим ... 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ы не любим...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0000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776124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imes New Roman"/>
              </a:rPr>
              <a:t>Компоненты здоровья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862200" y="1800360"/>
            <a:ext cx="7458120" cy="4021560"/>
            <a:chOff x="862200" y="1800360"/>
            <a:chExt cx="7458120" cy="4021560"/>
          </a:xfrm>
        </p:grpSpPr>
        <p:sp>
          <p:nvSpPr>
            <p:cNvPr id="1523" name="_s3179"/>
            <p:cNvSpPr/>
            <p:nvPr/>
          </p:nvSpPr>
          <p:spPr>
            <a:xfrm flipV="1">
              <a:off x="4589640" y="2843280"/>
              <a:ext cx="0" cy="52344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_s3107"/>
            <p:cNvSpPr/>
            <p:nvPr/>
          </p:nvSpPr>
          <p:spPr>
            <a:xfrm>
              <a:off x="3640320" y="1800360"/>
              <a:ext cx="1901880" cy="1045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ff"/>
                  </a:solidFill>
                  <a:latin typeface="Times New Roman"/>
                </a:rPr>
                <a:t>Движение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_s3177"/>
            <p:cNvSpPr/>
            <p:nvPr/>
          </p:nvSpPr>
          <p:spPr>
            <a:xfrm flipV="1">
              <a:off x="5331600" y="3236040"/>
              <a:ext cx="744120" cy="32580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_s3111"/>
            <p:cNvSpPr/>
            <p:nvPr/>
          </p:nvSpPr>
          <p:spPr>
            <a:xfrm>
              <a:off x="5868360" y="2388960"/>
              <a:ext cx="1901880" cy="1044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Положительн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эмоци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_s3176"/>
            <p:cNvSpPr/>
            <p:nvPr/>
          </p:nvSpPr>
          <p:spPr>
            <a:xfrm>
              <a:off x="5516280" y="4002480"/>
              <a:ext cx="925920" cy="1173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_s3113"/>
            <p:cNvSpPr/>
            <p:nvPr/>
          </p:nvSpPr>
          <p:spPr>
            <a:xfrm>
              <a:off x="6419160" y="3712680"/>
              <a:ext cx="1901160" cy="1045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Отказ от вредны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привыче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_s3175"/>
            <p:cNvSpPr/>
            <p:nvPr/>
          </p:nvSpPr>
          <p:spPr>
            <a:xfrm>
              <a:off x="5002200" y="4355640"/>
              <a:ext cx="411480" cy="47232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_s3115"/>
            <p:cNvSpPr/>
            <p:nvPr/>
          </p:nvSpPr>
          <p:spPr>
            <a:xfrm>
              <a:off x="4879440" y="4775760"/>
              <a:ext cx="1901880" cy="1044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Рационально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пита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_s3174"/>
            <p:cNvSpPr/>
            <p:nvPr/>
          </p:nvSpPr>
          <p:spPr>
            <a:xfrm flipH="1">
              <a:off x="3765960" y="4355640"/>
              <a:ext cx="415440" cy="47232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_s3117"/>
            <p:cNvSpPr/>
            <p:nvPr/>
          </p:nvSpPr>
          <p:spPr>
            <a:xfrm>
              <a:off x="2407680" y="4777560"/>
              <a:ext cx="1901880" cy="1044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Закаливание 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оздоров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_s3173"/>
            <p:cNvSpPr/>
            <p:nvPr/>
          </p:nvSpPr>
          <p:spPr>
            <a:xfrm flipH="1">
              <a:off x="2737440" y="4002480"/>
              <a:ext cx="929520" cy="1173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_s3119"/>
            <p:cNvSpPr/>
            <p:nvPr/>
          </p:nvSpPr>
          <p:spPr>
            <a:xfrm>
              <a:off x="862200" y="3716280"/>
              <a:ext cx="1901160" cy="1044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Чистота тела, жилища,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продуктов питан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_s3172"/>
            <p:cNvSpPr/>
            <p:nvPr/>
          </p:nvSpPr>
          <p:spPr>
            <a:xfrm flipH="1" flipV="1">
              <a:off x="3103560" y="3236040"/>
              <a:ext cx="748080" cy="32580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_s3121"/>
            <p:cNvSpPr/>
            <p:nvPr/>
          </p:nvSpPr>
          <p:spPr>
            <a:xfrm>
              <a:off x="1409040" y="2390760"/>
              <a:ext cx="1901160" cy="1044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33cc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ff"/>
                  </a:solidFill>
                  <a:latin typeface="Times New Roman"/>
                </a:rPr>
                <a:t>Режим дня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_s3122"/>
            <p:cNvSpPr/>
            <p:nvPr/>
          </p:nvSpPr>
          <p:spPr>
            <a:xfrm>
              <a:off x="3640320" y="3366720"/>
              <a:ext cx="1901880" cy="10443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cc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ЗДОРОВЬ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8" name="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d2fe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213372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endParaRPr b="0" lang="en-US" sz="4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4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lang="en-US" sz="4100" spc="-1" strike="noStrike">
                <a:solidFill>
                  <a:srgbClr val="000000"/>
                </a:solidFill>
                <a:latin typeface="Times New Roman"/>
              </a:rPr>
              <a:t>доровье человека – жизненно важная ценность, оно складывается из многих взаимосвязанных друг с другом компонентов.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1542" name="" descr=""/>
          <p:cNvPicPr/>
          <p:nvPr/>
        </p:nvPicPr>
        <p:blipFill>
          <a:blip r:embed="rId2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1226880" y="444240"/>
            <a:ext cx="733428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Times New Roman"/>
              </a:rPr>
              <a:t>ГАЛЕРЕЯ</a:t>
            </a:r>
            <a:br>
              <a:rPr sz="4000"/>
            </a:br>
            <a:r>
              <a:rPr b="1" lang="en-US" sz="4000" spc="-1" strike="noStrike">
                <a:solidFill>
                  <a:srgbClr val="dddddd"/>
                </a:solidFill>
                <a:latin typeface="Times New Roman"/>
              </a:rPr>
              <a:t>работы учеников 3б класса</a:t>
            </a:r>
            <a:endParaRPr b="0" lang="en-US" sz="4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44" name=""/>
          <p:cNvSpPr txBox="1"/>
          <p:nvPr/>
        </p:nvSpPr>
        <p:spPr>
          <a:xfrm>
            <a:off x="304920" y="2895480"/>
            <a:ext cx="8381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ДОРОВЫЙ ОБРАЗ ЖИЗНИ ГЛАЗАМИ ДЕТЕЙ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762120" y="5333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огозина Анн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У»Прогимназия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6248160" cy="4190760"/>
          </a:xfrm>
          <a:prstGeom prst="rect">
            <a:avLst/>
          </a:prstGeom>
          <a:ln w="63360">
            <a:solidFill>
              <a:srgbClr val="993300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380880" y="5410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акика Дании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ОУ»Прогимназия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7086600" cy="4844880"/>
          </a:xfrm>
          <a:prstGeom prst="rect">
            <a:avLst/>
          </a:prstGeom>
          <a:ln w="63360">
            <a:solidFill>
              <a:srgbClr val="333399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2438280" y="5257440"/>
            <a:ext cx="3733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лина Дарь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У «Прогимназия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0" name="" descr=""/>
          <p:cNvPicPr/>
          <p:nvPr/>
        </p:nvPicPr>
        <p:blipFill>
          <a:blip r:embed="rId1"/>
          <a:stretch/>
        </p:blipFill>
        <p:spPr>
          <a:xfrm>
            <a:off x="6324480" y="304920"/>
            <a:ext cx="2362320" cy="2084400"/>
          </a:xfrm>
          <a:prstGeom prst="rect">
            <a:avLst/>
          </a:prstGeom>
          <a:ln w="31680">
            <a:solidFill>
              <a:srgbClr val="993300"/>
            </a:solidFill>
            <a:miter/>
          </a:ln>
        </p:spPr>
      </p:pic>
      <p:pic>
        <p:nvPicPr>
          <p:cNvPr id="1551" name="" descr=""/>
          <p:cNvPicPr/>
          <p:nvPr/>
        </p:nvPicPr>
        <p:blipFill>
          <a:blip r:embed="rId2"/>
          <a:stretch/>
        </p:blipFill>
        <p:spPr>
          <a:xfrm>
            <a:off x="3429000" y="609480"/>
            <a:ext cx="2243160" cy="2186280"/>
          </a:xfrm>
          <a:prstGeom prst="rect">
            <a:avLst/>
          </a:prstGeom>
          <a:ln w="31680">
            <a:solidFill>
              <a:srgbClr val="00ffff"/>
            </a:solidFill>
            <a:miter/>
          </a:ln>
        </p:spPr>
      </p:pic>
      <p:pic>
        <p:nvPicPr>
          <p:cNvPr id="1552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2210040" cy="1904760"/>
          </a:xfrm>
          <a:prstGeom prst="rect">
            <a:avLst/>
          </a:prstGeom>
          <a:ln w="31680">
            <a:solidFill>
              <a:srgbClr val="008000"/>
            </a:solidFill>
            <a:miter/>
          </a:ln>
        </p:spPr>
      </p:pic>
      <p:pic>
        <p:nvPicPr>
          <p:cNvPr id="1553" name="" descr=""/>
          <p:cNvPicPr/>
          <p:nvPr/>
        </p:nvPicPr>
        <p:blipFill>
          <a:blip r:embed="rId4"/>
          <a:stretch/>
        </p:blipFill>
        <p:spPr>
          <a:xfrm>
            <a:off x="457200" y="3048120"/>
            <a:ext cx="2133720" cy="2133360"/>
          </a:xfrm>
          <a:prstGeom prst="rect">
            <a:avLst/>
          </a:prstGeom>
          <a:ln w="31680">
            <a:solidFill>
              <a:srgbClr val="00ff00"/>
            </a:solidFill>
            <a:miter/>
          </a:ln>
        </p:spPr>
      </p:pic>
      <p:pic>
        <p:nvPicPr>
          <p:cNvPr id="1554" name="" descr=""/>
          <p:cNvPicPr/>
          <p:nvPr/>
        </p:nvPicPr>
        <p:blipFill>
          <a:blip r:embed="rId5"/>
          <a:stretch/>
        </p:blipFill>
        <p:spPr>
          <a:xfrm>
            <a:off x="3657600" y="3124080"/>
            <a:ext cx="1905120" cy="1981440"/>
          </a:xfrm>
          <a:prstGeom prst="rect">
            <a:avLst/>
          </a:prstGeom>
          <a:ln w="31680">
            <a:solidFill>
              <a:srgbClr val="0000ff"/>
            </a:solidFill>
            <a:miter/>
          </a:ln>
        </p:spPr>
      </p:pic>
      <p:pic>
        <p:nvPicPr>
          <p:cNvPr id="1555" name="" descr=""/>
          <p:cNvPicPr/>
          <p:nvPr/>
        </p:nvPicPr>
        <p:blipFill>
          <a:blip r:embed="rId6"/>
          <a:stretch/>
        </p:blipFill>
        <p:spPr>
          <a:xfrm>
            <a:off x="6477120" y="3124080"/>
            <a:ext cx="2286000" cy="1828800"/>
          </a:xfrm>
          <a:prstGeom prst="rect">
            <a:avLst/>
          </a:prstGeom>
          <a:ln w="31680">
            <a:solidFill>
              <a:srgbClr val="cc99ff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54418"/>
            </a:gs>
            <a:gs pos="50000">
              <a:srgbClr val="a7ad9a"/>
            </a:gs>
            <a:gs pos="100000">
              <a:srgbClr val="35441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2" name="" descr=""/>
          <p:cNvPicPr/>
          <p:nvPr/>
        </p:nvPicPr>
        <p:blipFill>
          <a:blip r:embed="rId1"/>
          <a:stretch/>
        </p:blipFill>
        <p:spPr>
          <a:xfrm>
            <a:off x="7086600" y="1447920"/>
            <a:ext cx="1295280" cy="2590560"/>
          </a:xfrm>
          <a:prstGeom prst="rect">
            <a:avLst/>
          </a:prstGeom>
          <a:ln w="0">
            <a:noFill/>
          </a:ln>
        </p:spPr>
      </p:pic>
      <p:pic>
        <p:nvPicPr>
          <p:cNvPr id="1423" name="" descr=""/>
          <p:cNvPicPr/>
          <p:nvPr/>
        </p:nvPicPr>
        <p:blipFill>
          <a:blip r:embed="rId2"/>
          <a:stretch/>
        </p:blipFill>
        <p:spPr>
          <a:xfrm>
            <a:off x="1066680" y="4724280"/>
            <a:ext cx="965160" cy="1447920"/>
          </a:xfrm>
          <a:prstGeom prst="rect">
            <a:avLst/>
          </a:prstGeom>
          <a:ln w="0">
            <a:noFill/>
          </a:ln>
        </p:spPr>
      </p:pic>
      <p:pic>
        <p:nvPicPr>
          <p:cNvPr id="1424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965160" cy="144792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4"/>
          <a:stretch/>
        </p:blipFill>
        <p:spPr>
          <a:xfrm>
            <a:off x="3733920" y="4800600"/>
            <a:ext cx="914400" cy="1371600"/>
          </a:xfrm>
          <a:prstGeom prst="rect">
            <a:avLst/>
          </a:prstGeom>
          <a:ln w="0">
            <a:noFill/>
          </a:ln>
        </p:spPr>
      </p:pic>
      <p:pic>
        <p:nvPicPr>
          <p:cNvPr id="1426" name="" descr=""/>
          <p:cNvPicPr/>
          <p:nvPr/>
        </p:nvPicPr>
        <p:blipFill>
          <a:blip r:embed="rId5"/>
          <a:stretch/>
        </p:blipFill>
        <p:spPr>
          <a:xfrm>
            <a:off x="5181480" y="4648320"/>
            <a:ext cx="957240" cy="127764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6"/>
          <a:stretch/>
        </p:blipFill>
        <p:spPr>
          <a:xfrm>
            <a:off x="6477120" y="4724280"/>
            <a:ext cx="1203120" cy="1440000"/>
          </a:xfrm>
          <a:prstGeom prst="rect">
            <a:avLst/>
          </a:prstGeom>
          <a:ln w="0">
            <a:noFill/>
          </a:ln>
        </p:spPr>
      </p:pic>
      <p:sp>
        <p:nvSpPr>
          <p:cNvPr id="1428" name=""/>
          <p:cNvSpPr/>
          <p:nvPr/>
        </p:nvSpPr>
        <p:spPr>
          <a:xfrm>
            <a:off x="762120" y="1676520"/>
            <a:ext cx="6476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Я открою семь секретов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Как здоровье сохранить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Выполняя все секреты,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Без болезней будем жить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52d2c"/>
                </a:solidFill>
                <a:latin typeface="Times New Roman"/>
              </a:rPr>
              <a:t>Секреты здоровь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рпова Мария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У «Прогимназия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7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4419360"/>
          </a:xfrm>
          <a:prstGeom prst="rect">
            <a:avLst/>
          </a:prstGeom>
          <a:ln w="63360">
            <a:solidFill>
              <a:srgbClr val="003300"/>
            </a:solidFill>
            <a:miter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380880" y="56383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евастьянова Татьян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У «Прогимназия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9" name="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3809880" cy="4419720"/>
          </a:xfrm>
          <a:prstGeom prst="rect">
            <a:avLst/>
          </a:prstGeom>
          <a:ln w="63360">
            <a:solidFill>
              <a:srgbClr val="00ff00"/>
            </a:solidFill>
            <a:miter/>
          </a:ln>
        </p:spPr>
      </p:pic>
      <p:pic>
        <p:nvPicPr>
          <p:cNvPr id="1560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3657600" cy="4496040"/>
          </a:xfrm>
          <a:prstGeom prst="rect">
            <a:avLst/>
          </a:prstGeom>
          <a:ln w="63360">
            <a:solidFill>
              <a:srgbClr val="00ffff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33520" y="54864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зусь Виктор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У «Прогимназия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2" name="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239240" cy="4724640"/>
          </a:xfrm>
          <a:prstGeom prst="rect">
            <a:avLst/>
          </a:prstGeom>
          <a:ln w="63360">
            <a:solidFill>
              <a:srgbClr val="800080"/>
            </a:solidFill>
            <a:miter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/>
          </p:nvPr>
        </p:nvSpPr>
        <p:spPr>
          <a:xfrm>
            <a:off x="1828800" y="5486400"/>
            <a:ext cx="5029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урбанова Дар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У «Прогимназ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4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4648320"/>
          </a:xfrm>
          <a:prstGeom prst="rect">
            <a:avLst/>
          </a:prstGeom>
          <a:ln w="63360">
            <a:solidFill>
              <a:srgbClr val="ff66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752480" y="5714640"/>
            <a:ext cx="51818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руслов Антон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У «Прогимназия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8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6" name="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229600" cy="4724280"/>
          </a:xfrm>
          <a:prstGeom prst="rect">
            <a:avLst/>
          </a:prstGeom>
          <a:ln w="63360">
            <a:solidFill>
              <a:srgbClr val="99cc00"/>
            </a:solidFill>
            <a:miter/>
          </a:ln>
        </p:spPr>
      </p:pic>
    </p:spTree>
  </p:cSld>
  <p:transition spd="med" advTm="5000"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981080" y="5257800"/>
            <a:ext cx="5181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олина Дарь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У «Прогимназия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8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229600" cy="4587840"/>
          </a:xfrm>
          <a:prstGeom prst="rect">
            <a:avLst/>
          </a:prstGeom>
          <a:ln w="63360">
            <a:solidFill>
              <a:srgbClr val="ffff00"/>
            </a:solidFill>
            <a:miter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380880" y="5334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хоруков Дмитри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У «Прогимназия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0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7953480" cy="4438800"/>
          </a:xfrm>
          <a:prstGeom prst="rect">
            <a:avLst/>
          </a:prstGeom>
          <a:ln w="63360">
            <a:solidFill>
              <a:srgbClr val="808080"/>
            </a:solidFill>
            <a:miter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09480" y="5334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мыкало Анастас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У «Прогимназия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2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426708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533520" y="5257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удыкина Джули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У «Прогимназия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4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918040" cy="4560840"/>
          </a:xfrm>
          <a:prstGeom prst="rect">
            <a:avLst/>
          </a:prstGeom>
          <a:ln w="63360">
            <a:solidFill>
              <a:srgbClr val="ff0000"/>
            </a:solidFill>
            <a:miter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04920" y="5257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итов Макси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ОУ «Прогимназия»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6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629400" cy="4665600"/>
          </a:xfrm>
          <a:prstGeom prst="rect">
            <a:avLst/>
          </a:prstGeom>
          <a:ln w="50760">
            <a:solidFill>
              <a:srgbClr val="00ffff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 txBox="1"/>
          <p:nvPr/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/>
          </p:nvPr>
        </p:nvSpPr>
        <p:spPr>
          <a:xfrm>
            <a:off x="1752480" y="609480"/>
            <a:ext cx="6934320" cy="54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2d2c"/>
                </a:solidFill>
                <a:latin typeface="Comic Sans MS"/>
              </a:rPr>
              <a:t>Здравствуйте! Добрая ласковость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2d2c"/>
                </a:solidFill>
                <a:latin typeface="Comic Sans MS"/>
              </a:rPr>
              <a:t>                                   </a:t>
            </a:r>
            <a:r>
              <a:rPr b="1" lang="en-US" sz="2800" spc="-1" strike="noStrike">
                <a:solidFill>
                  <a:srgbClr val="152d2c"/>
                </a:solidFill>
                <a:latin typeface="Comic Sans MS"/>
              </a:rPr>
              <a:t>слов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2d2c"/>
                </a:solidFill>
                <a:latin typeface="Comic Sans MS"/>
              </a:rPr>
              <a:t>Стерлась на нет в ежедневном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2d2c"/>
                </a:solidFill>
                <a:latin typeface="Comic Sans MS"/>
              </a:rPr>
              <a:t>                                 </a:t>
            </a:r>
            <a:r>
              <a:rPr b="1" lang="en-US" sz="2800" spc="-1" strike="noStrike">
                <a:solidFill>
                  <a:srgbClr val="152d2c"/>
                </a:solidFill>
                <a:latin typeface="Comic Sans MS"/>
              </a:rPr>
              <a:t>привет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2d2c"/>
                </a:solidFill>
                <a:latin typeface="Comic Sans MS"/>
              </a:rPr>
              <a:t>Здравствуйте! Это же - будьте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2d2c"/>
                </a:solidFill>
                <a:latin typeface="Comic Sans MS"/>
              </a:rPr>
              <a:t>                                 </a:t>
            </a:r>
            <a:r>
              <a:rPr b="1" lang="en-US" sz="2800" spc="-1" strike="noStrike">
                <a:solidFill>
                  <a:srgbClr val="152d2c"/>
                </a:solidFill>
                <a:latin typeface="Comic Sans MS"/>
              </a:rPr>
              <a:t>здоровы,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52d2c"/>
                </a:solidFill>
                <a:latin typeface="Comic Sans MS"/>
              </a:rPr>
              <a:t>Это же - дольше живите на свете.</a:t>
            </a:r>
            <a:r>
              <a:rPr b="0" lang="en-US" sz="2800" spc="-1" strike="noStrike">
                <a:solidFill>
                  <a:srgbClr val="152d2c"/>
                </a:solidFill>
                <a:latin typeface="Comic Sans MS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152d2c"/>
                </a:solidFill>
                <a:latin typeface="Verdana"/>
              </a:rPr>
              <a:t>                                    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52d2c"/>
                </a:solidFill>
                <a:latin typeface="Times New Roman"/>
              </a:rPr>
              <a:t>                                   </a:t>
            </a:r>
            <a:r>
              <a:rPr b="0" i="1" lang="en-US" sz="3200" spc="-1" strike="noStrike">
                <a:solidFill>
                  <a:srgbClr val="152d2c"/>
                </a:solidFill>
                <a:latin typeface="Times New Roman"/>
              </a:rPr>
              <a:t>  </a:t>
            </a:r>
            <a:r>
              <a:rPr b="0" i="1" lang="en-US" sz="3200" spc="-1" strike="noStrike">
                <a:solidFill>
                  <a:srgbClr val="152d2c"/>
                </a:solidFill>
                <a:latin typeface="Comic Sans MS"/>
              </a:rPr>
              <a:t>Е. Шевелёва</a:t>
            </a:r>
            <a:r>
              <a:rPr b="0" lang="en-US" sz="3600" spc="-1" strike="noStrike">
                <a:solidFill>
                  <a:srgbClr val="152d2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dded"/>
            </a:gs>
            <a:gs pos="100000">
              <a:srgbClr val="00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"/>
          <p:cNvSpPr txBox="1"/>
          <p:nvPr/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Вредные поступки – </a:t>
            </a:r>
            <a:br>
              <a:rPr sz="4000"/>
            </a:br>
            <a:r>
              <a:rPr b="1" lang="en-US" sz="4000" spc="-1" strike="noStrike">
                <a:solidFill>
                  <a:srgbClr val="cc3399"/>
                </a:solidFill>
                <a:latin typeface="Times New Roman"/>
              </a:rPr>
              <a:t>                       добрые поступки!</a:t>
            </a:r>
            <a:endParaRPr b="0" lang="en-US" sz="4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7" name="" descr=""/>
          <p:cNvPicPr/>
          <p:nvPr/>
        </p:nvPicPr>
        <p:blipFill>
          <a:blip r:embed="rId1"/>
          <a:stretch/>
        </p:blipFill>
        <p:spPr>
          <a:xfrm>
            <a:off x="5257800" y="1828800"/>
            <a:ext cx="2089080" cy="1674720"/>
          </a:xfrm>
          <a:prstGeom prst="rect">
            <a:avLst/>
          </a:prstGeom>
          <a:ln w="0">
            <a:noFill/>
          </a:ln>
        </p:spPr>
      </p:pic>
      <p:pic>
        <p:nvPicPr>
          <p:cNvPr id="1438" name="" descr=""/>
          <p:cNvPicPr/>
          <p:nvPr/>
        </p:nvPicPr>
        <p:blipFill>
          <a:blip r:embed="rId2"/>
          <a:stretch/>
        </p:blipFill>
        <p:spPr>
          <a:xfrm>
            <a:off x="5181480" y="4724280"/>
            <a:ext cx="2714760" cy="1462320"/>
          </a:xfrm>
          <a:prstGeom prst="rect">
            <a:avLst/>
          </a:prstGeom>
          <a:ln w="0">
            <a:noFill/>
          </a:ln>
        </p:spPr>
      </p:pic>
      <p:pic>
        <p:nvPicPr>
          <p:cNvPr id="1439" name="" descr=""/>
          <p:cNvPicPr/>
          <p:nvPr/>
        </p:nvPicPr>
        <p:blipFill>
          <a:blip r:embed="rId3"/>
          <a:stretch/>
        </p:blipFill>
        <p:spPr>
          <a:xfrm>
            <a:off x="0" y="666900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14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sp>
        <p:nvSpPr>
          <p:cNvPr id="1441" name=""/>
          <p:cNvSpPr/>
          <p:nvPr/>
        </p:nvSpPr>
        <p:spPr>
          <a:xfrm>
            <a:off x="152280" y="1945080"/>
            <a:ext cx="571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куда берутся лентяи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Может лентяи с Луны прилетают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куда берутся грязнули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Может грязнуль с Сатурна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олкнули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ремя листает календар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Пишет новые словар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 там таких не найдешь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“Трусость” и “ложь”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чезнут слова как дым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“Ябеда” и “подхалим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2" name="" descr=""/>
          <p:cNvPicPr/>
          <p:nvPr/>
        </p:nvPicPr>
        <p:blipFill>
          <a:blip r:embed="rId5"/>
          <a:stretch/>
        </p:blipFill>
        <p:spPr>
          <a:xfrm>
            <a:off x="7315200" y="3048120"/>
            <a:ext cx="131760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b5dbe3"/>
            </a:gs>
            <a:gs pos="100000">
              <a:srgbClr val="9999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94760" y="249120"/>
            <a:ext cx="8015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imes New Roman"/>
              </a:rPr>
              <a:t>«Чистота – залог здоровья!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335b"/>
                </a:solidFill>
                <a:latin typeface="Times New Roman"/>
              </a:rPr>
              <a:t>Каждый раз перед ед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335b"/>
                </a:solidFill>
                <a:latin typeface="Times New Roman"/>
              </a:rPr>
              <a:t>Нужно фрукты мыть водой 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335b"/>
                </a:solidFill>
                <a:latin typeface="Times New Roman"/>
              </a:rPr>
              <a:t>Чтобы быть здоровым,  сильны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335b"/>
                </a:solidFill>
                <a:latin typeface="Times New Roman"/>
              </a:rPr>
              <a:t>Мой лицо и руки с мыло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335b"/>
                </a:solidFill>
                <a:latin typeface="Times New Roman"/>
              </a:rPr>
              <a:t>Будь аккуратен, забудь лень 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335b"/>
                </a:solidFill>
                <a:latin typeface="Times New Roman"/>
              </a:rPr>
              <a:t>Чисти зубы каждый день !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7" name="" descr=""/>
          <p:cNvPicPr/>
          <p:nvPr/>
        </p:nvPicPr>
        <p:blipFill>
          <a:blip r:embed="rId1"/>
          <a:stretch/>
        </p:blipFill>
        <p:spPr>
          <a:xfrm>
            <a:off x="6705720" y="4191120"/>
            <a:ext cx="2340000" cy="23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 txBox="1"/>
          <p:nvPr/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99"/>
                </a:solidFill>
                <a:latin typeface="Times New Roman"/>
              </a:rPr>
              <a:t>Секреты закаливания: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2" name="" descr=""/>
          <p:cNvPicPr/>
          <p:nvPr/>
        </p:nvPicPr>
        <p:blipFill>
          <a:blip r:embed="rId1"/>
          <a:srcRect l="36252" t="15181" r="35334" b="49010"/>
          <a:stretch/>
        </p:blipFill>
        <p:spPr>
          <a:xfrm>
            <a:off x="6019920" y="3581280"/>
            <a:ext cx="2971800" cy="3048120"/>
          </a:xfrm>
          <a:prstGeom prst="rect">
            <a:avLst/>
          </a:prstGeom>
          <a:ln w="0">
            <a:noFill/>
          </a:ln>
        </p:spPr>
      </p:pic>
      <p:sp>
        <p:nvSpPr>
          <p:cNvPr id="1453" name=""/>
          <p:cNvSpPr/>
          <p:nvPr/>
        </p:nvSpPr>
        <p:spPr>
          <a:xfrm>
            <a:off x="838080" y="1980720"/>
            <a:ext cx="579132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тром - бег и душ бодрящий, Как для взрослых, настоящи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ночь окна открывать, Свежим воздухом дышать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оги мыть водой холодной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тогда микроб голод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ас во век не одоле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"/>
          <p:cNvSpPr txBox="1"/>
          <p:nvPr/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79246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Движение - жизнь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54864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лодым я говорю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 здоровьем дружен спорт!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адион, бассейн и корт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л, каток – везде всем рады.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 старание в награду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анут мышцы ваши тверды,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удут кубки и рекорд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8" name="" descr=""/>
          <p:cNvPicPr/>
          <p:nvPr/>
        </p:nvPicPr>
        <p:blipFill>
          <a:blip r:embed="rId1"/>
          <a:stretch/>
        </p:blipFill>
        <p:spPr>
          <a:xfrm>
            <a:off x="7467480" y="2362320"/>
            <a:ext cx="1524240" cy="1425600"/>
          </a:xfrm>
          <a:prstGeom prst="rect">
            <a:avLst/>
          </a:prstGeom>
          <a:ln w="0">
            <a:noFill/>
          </a:ln>
        </p:spPr>
      </p:pic>
      <p:pic>
        <p:nvPicPr>
          <p:cNvPr id="1459" name="" descr=""/>
          <p:cNvPicPr/>
          <p:nvPr/>
        </p:nvPicPr>
        <p:blipFill>
          <a:blip r:embed="rId2"/>
          <a:stretch/>
        </p:blipFill>
        <p:spPr>
          <a:xfrm>
            <a:off x="7467480" y="2362320"/>
            <a:ext cx="1524240" cy="1425600"/>
          </a:xfrm>
          <a:prstGeom prst="rect">
            <a:avLst/>
          </a:prstGeom>
          <a:ln w="0">
            <a:noFill/>
          </a:ln>
        </p:spPr>
      </p:pic>
      <p:pic>
        <p:nvPicPr>
          <p:cNvPr id="1460" name="" descr=""/>
          <p:cNvPicPr/>
          <p:nvPr/>
        </p:nvPicPr>
        <p:blipFill>
          <a:blip r:embed="rId3"/>
          <a:stretch/>
        </p:blipFill>
        <p:spPr>
          <a:xfrm>
            <a:off x="7162920" y="5410080"/>
            <a:ext cx="1568160" cy="1266840"/>
          </a:xfrm>
          <a:prstGeom prst="rect">
            <a:avLst/>
          </a:prstGeom>
          <a:ln w="0">
            <a:noFill/>
          </a:ln>
        </p:spPr>
      </p:pic>
      <p:pic>
        <p:nvPicPr>
          <p:cNvPr id="1461" name="" descr=""/>
          <p:cNvPicPr/>
          <p:nvPr/>
        </p:nvPicPr>
        <p:blipFill>
          <a:blip r:embed="rId4"/>
          <a:stretch/>
        </p:blipFill>
        <p:spPr>
          <a:xfrm>
            <a:off x="6705720" y="3886200"/>
            <a:ext cx="1684080" cy="1219320"/>
          </a:xfrm>
          <a:prstGeom prst="rect">
            <a:avLst/>
          </a:prstGeom>
          <a:ln w="0">
            <a:noFill/>
          </a:ln>
        </p:spPr>
      </p:pic>
      <p:pic>
        <p:nvPicPr>
          <p:cNvPr id="1462" name="" descr=""/>
          <p:cNvPicPr/>
          <p:nvPr/>
        </p:nvPicPr>
        <p:blipFill>
          <a:blip r:embed="rId5"/>
          <a:stretch/>
        </p:blipFill>
        <p:spPr>
          <a:xfrm>
            <a:off x="5105520" y="2362320"/>
            <a:ext cx="1698480" cy="1828800"/>
          </a:xfrm>
          <a:prstGeom prst="rect">
            <a:avLst/>
          </a:prstGeom>
          <a:ln w="0">
            <a:noFill/>
          </a:ln>
        </p:spPr>
      </p:pic>
      <p:pic>
        <p:nvPicPr>
          <p:cNvPr id="1463" name="" descr=""/>
          <p:cNvPicPr/>
          <p:nvPr/>
        </p:nvPicPr>
        <p:blipFill>
          <a:blip r:embed="rId6"/>
          <a:stretch/>
        </p:blipFill>
        <p:spPr>
          <a:xfrm>
            <a:off x="5029200" y="5105520"/>
            <a:ext cx="1924200" cy="1539720"/>
          </a:xfrm>
          <a:prstGeom prst="rect">
            <a:avLst/>
          </a:prstGeom>
          <a:ln w="0">
            <a:noFill/>
          </a:ln>
        </p:spPr>
      </p:pic>
      <p:pic>
        <p:nvPicPr>
          <p:cNvPr id="1464" name="" descr=""/>
          <p:cNvPicPr/>
          <p:nvPr/>
        </p:nvPicPr>
        <p:blipFill>
          <a:blip r:embed="rId7"/>
          <a:stretch/>
        </p:blipFill>
        <p:spPr>
          <a:xfrm>
            <a:off x="7162920" y="-228600"/>
            <a:ext cx="144756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«Кто спортом занимается,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тот силы набирается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792504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Спорт нам плечи расправля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Силу, ловкость нам д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Он нам мышцы развива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На рекорды нас зов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9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1523880" cy="1600200"/>
          </a:xfrm>
          <a:prstGeom prst="rect">
            <a:avLst/>
          </a:prstGeom>
          <a:ln w="0">
            <a:noFill/>
          </a:ln>
        </p:spPr>
      </p:pic>
      <p:pic>
        <p:nvPicPr>
          <p:cNvPr id="1470" name="" descr=""/>
          <p:cNvPicPr/>
          <p:nvPr/>
        </p:nvPicPr>
        <p:blipFill>
          <a:blip r:embed="rId2"/>
          <a:stretch/>
        </p:blipFill>
        <p:spPr>
          <a:xfrm>
            <a:off x="4800600" y="4419720"/>
            <a:ext cx="1488960" cy="1752480"/>
          </a:xfrm>
          <a:prstGeom prst="rect">
            <a:avLst/>
          </a:prstGeom>
          <a:ln w="0">
            <a:noFill/>
          </a:ln>
        </p:spPr>
      </p:pic>
      <p:pic>
        <p:nvPicPr>
          <p:cNvPr id="1471" name="" descr=""/>
          <p:cNvPicPr/>
          <p:nvPr/>
        </p:nvPicPr>
        <p:blipFill>
          <a:blip r:embed="rId3"/>
          <a:stretch/>
        </p:blipFill>
        <p:spPr>
          <a:xfrm>
            <a:off x="6705720" y="2286000"/>
            <a:ext cx="2057400" cy="1674720"/>
          </a:xfrm>
          <a:prstGeom prst="rect">
            <a:avLst/>
          </a:prstGeom>
          <a:ln w="0">
            <a:noFill/>
          </a:ln>
        </p:spPr>
      </p:pic>
      <p:pic>
        <p:nvPicPr>
          <p:cNvPr id="1472" name="" descr=""/>
          <p:cNvPicPr/>
          <p:nvPr/>
        </p:nvPicPr>
        <p:blipFill>
          <a:blip r:embed="rId4"/>
          <a:stretch/>
        </p:blipFill>
        <p:spPr>
          <a:xfrm>
            <a:off x="6781680" y="4267080"/>
            <a:ext cx="1447920" cy="13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«Умеренный в еде - всегда здоров!»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476" name="" descr=""/>
          <p:cNvPicPr/>
          <p:nvPr/>
        </p:nvPicPr>
        <p:blipFill>
          <a:blip r:embed="rId1"/>
          <a:srcRect l="3405" t="16265" r="68803" b="51186"/>
          <a:stretch/>
        </p:blipFill>
        <p:spPr>
          <a:xfrm>
            <a:off x="609480" y="4724280"/>
            <a:ext cx="2057400" cy="1839960"/>
          </a:xfrm>
          <a:prstGeom prst="rect">
            <a:avLst/>
          </a:prstGeom>
          <a:ln w="0">
            <a:noFill/>
          </a:ln>
        </p:spPr>
      </p:pic>
      <p:pic>
        <p:nvPicPr>
          <p:cNvPr id="1477" name="" descr=""/>
          <p:cNvPicPr/>
          <p:nvPr/>
        </p:nvPicPr>
        <p:blipFill>
          <a:blip r:embed="rId2"/>
          <a:srcRect l="3931" t="60356" r="67662" b="4552"/>
          <a:stretch/>
        </p:blipFill>
        <p:spPr>
          <a:xfrm>
            <a:off x="6248520" y="2209680"/>
            <a:ext cx="2209680" cy="1809720"/>
          </a:xfrm>
          <a:prstGeom prst="rect">
            <a:avLst/>
          </a:prstGeom>
          <a:ln w="0">
            <a:noFill/>
          </a:ln>
        </p:spPr>
      </p:pic>
      <p:sp>
        <p:nvSpPr>
          <p:cNvPr id="1478" name=""/>
          <p:cNvSpPr txBox="1"/>
          <p:nvPr/>
        </p:nvSpPr>
        <p:spPr>
          <a:xfrm>
            <a:off x="5943600" y="1905120"/>
            <a:ext cx="28195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неправильное пит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80880" y="4343400"/>
            <a:ext cx="26672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00"/>
                </a:solidFill>
                <a:latin typeface="Arial"/>
              </a:rPr>
              <a:t>правильное пит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00"/>
              </a:solidFill>
              <a:latin typeface="Arial"/>
              <a:ea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3962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17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Я люблю покушать сытно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ного, вкусно, аппетитн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Ем я все и без разбор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тому что я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7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обж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181480" y="4419360"/>
            <a:ext cx="3886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Чтобы десны были крепким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Грызи морковку с репко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Чтобы зубы не болел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место пряников, конфе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Ешьте яблоки, морковку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Вот вам, дети, мой сов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4191120" y="281952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diamond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048120" y="5105520"/>
            <a:ext cx="1752480" cy="0"/>
          </a:xfrm>
          <a:prstGeom prst="line">
            <a:avLst/>
          </a:prstGeom>
          <a:ln w="38160">
            <a:solidFill>
              <a:srgbClr val="ffcc00"/>
            </a:solidFill>
            <a:miter/>
            <a:headEnd len="med" type="diamond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2:25:06Z</dcterms:created>
  <dc:creator>Наталья </dc:creator>
  <dc:description/>
  <dc:language>en-US</dc:language>
  <cp:lastModifiedBy>nadezhda.pronskaya</cp:lastModifiedBy>
  <dcterms:modified xsi:type="dcterms:W3CDTF">2011-03-16T16:23:25Z</dcterms:modified>
  <cp:revision>169</cp:revision>
  <dc:subject/>
  <dc:title>2б класс за здоровый образ жизни</dc:title>
</cp:coreProperties>
</file>