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252C-68C9-40F1-A05E-D82273F12C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A21-2FB7-4907-8772-B89B939447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5E8D-543F-4283-80FF-9DCB5B8D91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FFE5-ACCA-4B0B-B3F5-DC59409AB2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1AD-2C2E-4769-898E-667B292D96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2B0A-51A4-4BAF-9ECB-413C80DB2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90C-AB02-48D6-B435-D6A1CBF8B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4DB8-9097-48FB-9FEF-DF74DA9779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8B52-66C6-470C-9906-AF3578324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7AB-1358-4383-B9B1-C0A5B4C62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A556-D283-4EA8-8E83-DEF574DF4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5B0-F1A4-4B5F-830D-ABAAF63A4B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C793-EAC0-4E0C-8A22-F6D92347F5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E4E-C69D-4436-86B8-02DE2F7150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AE3E-0407-4614-B974-3D33454DEB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EF8F-61D3-4664-92B7-7724E0D316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81AD-2B4F-4742-8117-9ED8E2DCDD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DA07-2076-44D2-88A1-E54382A572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AA85-2EC3-451E-925E-EB7A8DBE06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0F0-1E0C-41E2-9A17-FEE7015769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784F-2E68-4382-B861-102E432119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EBFA-1BC9-4EE1-8C81-58EE57C771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D938-9306-4572-AFEC-23C6E9F6C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B918-A60C-44A8-B4A4-DA4EC7416C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E468-7A33-42F8-9E32-7D84F4D89F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087-560F-4320-9EDA-95C3956B2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ED9-C6A1-4801-A968-59D8263736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DBE-0BB8-4B83-85F8-F9C8ECE5B0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6911-E09E-426E-971F-50CFA18CD2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349-64F9-4077-A793-0E559C5B12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2FD3-2821-4E14-AE55-1C47CADDC4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5619-7AAE-4C6C-8E2E-F319C0C31F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91D1-087B-4FAE-8C14-470022180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3B9-3A22-4ED3-BE1F-4095BC7266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5A1-1274-430B-8239-556C759CFC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5DD-B0A1-4E5F-B01A-74CBFFA6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1C3-4991-43CE-9715-67B661CD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B6C-8883-4506-9581-8585B35F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0C5-D8E9-4C2C-A6DD-BB339674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58F-DD47-4E0E-9ED1-8364A389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B71-AE55-472A-BE8D-AF43004E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196-355A-465E-8BD2-C2A80EE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67D4-6AF5-4234-AAFD-4A87C11B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4B7-8C37-4F02-90FE-49B53E22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3B0-C6C9-44D0-9AA3-011D47C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FC0-8382-4AD9-8DDA-01859802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742-75BC-4379-8BD3-46E317D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292929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F62-81F8-4266-A197-F07B6B71E4B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DA69-24DE-4CD1-9DA3-66479F37D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30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33.xml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31.xml"/><Relationship Id="rId11" Type="http://schemas.openxmlformats.org/officeDocument/2006/relationships/image" Target="../media/image15.jpeg"/><Relationship Id="rId12" Type="http://schemas.openxmlformats.org/officeDocument/2006/relationships/slide" Target="slide32.xml"/><Relationship Id="rId13" Type="http://schemas.openxmlformats.org/officeDocument/2006/relationships/image" Target="../media/image16.jpeg"/><Relationship Id="rId14" Type="http://schemas.openxmlformats.org/officeDocument/2006/relationships/slide" Target="slide32.xml"/><Relationship Id="rId15" Type="http://schemas.openxmlformats.org/officeDocument/2006/relationships/image" Target="../media/image17.jpeg"/><Relationship Id="rId16" Type="http://schemas.openxmlformats.org/officeDocument/2006/relationships/slide" Target="slide32.xml"/><Relationship Id="rId17" Type="http://schemas.openxmlformats.org/officeDocument/2006/relationships/image" Target="../media/image18.jpeg"/><Relationship Id="rId18" Type="http://schemas.openxmlformats.org/officeDocument/2006/relationships/slide" Target="slide32.xml"/><Relationship Id="rId19" Type="http://schemas.openxmlformats.org/officeDocument/2006/relationships/image" Target="../media/image19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32.xml"/><Relationship Id="rId11" Type="http://schemas.openxmlformats.org/officeDocument/2006/relationships/image" Target="../media/image20.png"/><Relationship Id="rId12" Type="http://schemas.openxmlformats.org/officeDocument/2006/relationships/slide" Target="slide32.xml"/><Relationship Id="rId13" Type="http://schemas.openxmlformats.org/officeDocument/2006/relationships/image" Target="../media/image21.jpeg"/><Relationship Id="rId14" Type="http://schemas.openxmlformats.org/officeDocument/2006/relationships/slide" Target="slide31.xml"/><Relationship Id="rId15" Type="http://schemas.openxmlformats.org/officeDocument/2006/relationships/image" Target="../media/image22.jpeg"/><Relationship Id="rId16" Type="http://schemas.openxmlformats.org/officeDocument/2006/relationships/slide" Target="slide32.xml"/><Relationship Id="rId17" Type="http://schemas.openxmlformats.org/officeDocument/2006/relationships/image" Target="../media/image23.png"/><Relationship Id="rId18" Type="http://schemas.openxmlformats.org/officeDocument/2006/relationships/slide" Target="slide32.xml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4.xml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" Target="slide17.xml"/><Relationship Id="rId12" Type="http://schemas.openxmlformats.org/officeDocument/2006/relationships/slide" Target="slide21.xml"/><Relationship Id="rId13" Type="http://schemas.openxmlformats.org/officeDocument/2006/relationships/slide" Target="slide11.xml"/><Relationship Id="rId14" Type="http://schemas.openxmlformats.org/officeDocument/2006/relationships/slide" Target="slide5.xml"/><Relationship Id="rId15" Type="http://schemas.openxmlformats.org/officeDocument/2006/relationships/slide" Target="slide9.xml"/><Relationship Id="rId16" Type="http://schemas.openxmlformats.org/officeDocument/2006/relationships/slide" Target="slide23.xml"/><Relationship Id="rId17" Type="http://schemas.openxmlformats.org/officeDocument/2006/relationships/slide" Target="slide18.xml"/><Relationship Id="rId18" Type="http://schemas.openxmlformats.org/officeDocument/2006/relationships/slide" Target="slide13.xml"/><Relationship Id="rId19" Type="http://schemas.openxmlformats.org/officeDocument/2006/relationships/slide" Target="slide16.xml"/><Relationship Id="rId20" Type="http://schemas.openxmlformats.org/officeDocument/2006/relationships/slide" Target="slide12.xml"/><Relationship Id="rId21" Type="http://schemas.openxmlformats.org/officeDocument/2006/relationships/slide" Target="slide22.xml"/><Relationship Id="rId22" Type="http://schemas.openxmlformats.org/officeDocument/2006/relationships/slide" Target="slide8.xml"/><Relationship Id="rId23" Type="http://schemas.openxmlformats.org/officeDocument/2006/relationships/slide" Target="slide20.xml"/><Relationship Id="rId24" Type="http://schemas.openxmlformats.org/officeDocument/2006/relationships/slide" Target="slide6.xml"/><Relationship Id="rId25" Type="http://schemas.openxmlformats.org/officeDocument/2006/relationships/slide" Target="slide15.xml"/><Relationship Id="rId26" Type="http://schemas.openxmlformats.org/officeDocument/2006/relationships/slide" Target="slide14.xml"/><Relationship Id="rId27" Type="http://schemas.openxmlformats.org/officeDocument/2006/relationships/slide" Target="slide10.xml"/><Relationship Id="rId28" Type="http://schemas.openxmlformats.org/officeDocument/2006/relationships/slide" Target="slide19.xml"/><Relationship Id="rId29" Type="http://schemas.openxmlformats.org/officeDocument/2006/relationships/slide" Target="slide7.xml"/><Relationship Id="rId30" Type="http://schemas.openxmlformats.org/officeDocument/2006/relationships/slide" Target="slide28.xml"/><Relationship Id="rId31" Type="http://schemas.openxmlformats.org/officeDocument/2006/relationships/image" Target="../media/image11.jpeg"/><Relationship Id="rId32" Type="http://schemas.openxmlformats.org/officeDocument/2006/relationships/slide" Target="slide24.xml"/><Relationship Id="rId33" Type="http://schemas.openxmlformats.org/officeDocument/2006/relationships/image" Target="../media/image11.jpe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0" name="Полилиния 17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3" name="Овал 11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4" name="Овал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57" name="Овал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" name="Хорда 14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Хорда 15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2" name="Полилиния 21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5" name="Овал 26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6" name="Овал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Овал 27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69" name="Овал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" name="Хорда 24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Хорда 25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5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Хорда 32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Хорда 33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0" name="Полилиния 40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3" name="Овал 45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4" name="Овал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Овал 46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87" name="Овал 4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" name="Хорда 43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Хорда 44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92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Группа 31" descr=""/>
            <p:cNvPicPr/>
            <p:nvPr/>
          </p:nvPicPr>
          <p:blipFill>
            <a:blip r:embed="rId8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4"/>
          <p:cNvSpPr/>
          <p:nvPr/>
        </p:nvSpPr>
        <p:spPr>
          <a:xfrm>
            <a:off x="-5040" y="1268280"/>
            <a:ext cx="8579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lackadder ITC"/>
              </a:rPr>
              <a:t>Викторина п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lackadder ITC"/>
              </a:rPr>
              <a:t>Правила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lackadder ITC"/>
              </a:rPr>
              <a:t>Дорожного Движ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lackadder ITC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Blackadder ITC"/>
              </a:rPr>
              <a:t>«Счастливый случай»</a:t>
            </a:r>
            <a:r>
              <a:rPr b="0" lang="ru-RU" sz="5400" spc="-1" strike="noStrike">
                <a:solidFill>
                  <a:srgbClr val="000000"/>
                </a:solidFill>
                <a:latin typeface="Blackadder IT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язанности  пассажиров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34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Подзаголовок 55"/>
          <p:cNvGrpSpPr/>
          <p:nvPr/>
        </p:nvGrpSpPr>
        <p:grpSpPr>
          <a:xfrm>
            <a:off x="182520" y="841320"/>
            <a:ext cx="8736120" cy="5023080"/>
            <a:chOff x="182520" y="841320"/>
            <a:chExt cx="8736120" cy="5023080"/>
          </a:xfrm>
        </p:grpSpPr>
        <p:pic>
          <p:nvPicPr>
            <p:cNvPr id="540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182520" y="841320"/>
              <a:ext cx="8736120" cy="50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192240" y="851040"/>
              <a:ext cx="871524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Где  нуж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стоять в ожидани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трамвая, троллейбуса,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автобуса</a:t>
              </a:r>
              <a:r>
                <a:rPr b="0" lang="ru-RU" sz="5400" spc="-1" strike="noStrike" u="sng">
                  <a:solidFill>
                    <a:srgbClr val="0000ff"/>
                  </a:solidFill>
                  <a:uFillTx/>
                  <a:latin typeface="Bookman Old Style"/>
                  <a:hlinkClick r:id="rId3" action="ppaction://hlinksldjump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43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4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46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47" name="Овал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550" name="Овал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55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5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58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59" name="Овал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562" name="Овал 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3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4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6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67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6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70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71" name="Овал 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574" name="Овал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6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79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Группа 31" descr=""/>
            <p:cNvPicPr/>
            <p:nvPr/>
          </p:nvPicPr>
          <p:blipFill>
            <a:blip r:embed="rId10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язанности  пассаж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85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591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94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9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97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98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60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06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0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09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10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613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14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5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18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2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21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22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625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7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9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30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53"/>
          <p:cNvSpPr/>
          <p:nvPr/>
        </p:nvSpPr>
        <p:spPr>
          <a:xfrm>
            <a:off x="279720" y="1335240"/>
            <a:ext cx="873540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акие прави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ове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 транспорт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обществ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ользования вы знаете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язанности  пассаж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37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643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6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4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49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50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65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4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5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7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58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6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61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62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6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665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66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7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70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7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73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74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677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8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9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1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82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Rectangle 53"/>
          <p:cNvSpPr/>
          <p:nvPr/>
        </p:nvSpPr>
        <p:spPr>
          <a:xfrm>
            <a:off x="1369440" y="1571760"/>
            <a:ext cx="691848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ак нуж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ереходить улиц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ри выход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из  автобуса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бязанности  пассажи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89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695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98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0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0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02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70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9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10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1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1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14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1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717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18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1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22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2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25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26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8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729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0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1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3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34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53"/>
          <p:cNvSpPr/>
          <p:nvPr/>
        </p:nvSpPr>
        <p:spPr>
          <a:xfrm>
            <a:off x="1187280" y="1773360"/>
            <a:ext cx="69850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Каков порядок посадки  в автобус  и выход  из него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41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747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В каких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местах мож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переходить улицу</a:t>
              </a:r>
              <a:r>
                <a:rPr b="0" lang="ru-RU" sz="5400" spc="-1" strike="noStrike" u="sng">
                  <a:solidFill>
                    <a:srgbClr val="0000ff"/>
                  </a:solidFill>
                  <a:uFillTx/>
                  <a:latin typeface="Bookman Old Style"/>
                  <a:hlinkClick r:id="rId3" action="ppaction://hlinksldjump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indent="358920">
                <a:lnSpc>
                  <a:spcPct val="100000"/>
                </a:lnSpc>
                <a:spcBef>
                  <a:spcPts val="1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50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5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53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54" name="Овал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6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757" name="Овал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8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9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2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6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65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66" name="Овал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6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769" name="Овал 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0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71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3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74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7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77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78" name="Овал 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781" name="Овал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86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Группа 31" descr=""/>
            <p:cNvPicPr/>
            <p:nvPr/>
          </p:nvPicPr>
          <p:blipFill>
            <a:blip r:embed="rId10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9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79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0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0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0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0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80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1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1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1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1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1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82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2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2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2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2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2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83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3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1" name="Rectangle 53"/>
          <p:cNvSpPr/>
          <p:nvPr/>
        </p:nvSpPr>
        <p:spPr>
          <a:xfrm>
            <a:off x="-260280" y="1765440"/>
            <a:ext cx="96267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ак над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равильно переходи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улицу, дорогу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44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850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53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5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56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57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86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61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2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65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6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68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69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872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3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4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6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77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7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80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81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884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5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6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8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89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Rectangle 53"/>
          <p:cNvSpPr/>
          <p:nvPr/>
        </p:nvSpPr>
        <p:spPr>
          <a:xfrm>
            <a:off x="1427760" y="16200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4"/>
          <p:cNvSpPr/>
          <p:nvPr/>
        </p:nvSpPr>
        <p:spPr>
          <a:xfrm>
            <a:off x="1004400" y="1765440"/>
            <a:ext cx="685728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Можно 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еребегать через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улицу, дорогу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97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903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906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90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909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910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91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4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15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7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918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92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921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922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925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6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7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9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930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3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33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34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937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8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39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942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Rectangle 53"/>
          <p:cNvSpPr/>
          <p:nvPr/>
        </p:nvSpPr>
        <p:spPr>
          <a:xfrm>
            <a:off x="1197360" y="9684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4"/>
          <p:cNvSpPr/>
          <p:nvPr/>
        </p:nvSpPr>
        <p:spPr>
          <a:xfrm>
            <a:off x="929160" y="1557360"/>
            <a:ext cx="732384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очему пешеход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нельзя ход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по проезжей час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улицы, дороги</a:t>
            </a:r>
            <a:r>
              <a:rPr b="0" lang="ru-RU" sz="48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950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956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959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96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962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963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96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7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8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971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97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974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975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978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9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80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983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8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86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87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990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1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2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4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995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Rectangle 53"/>
          <p:cNvSpPr/>
          <p:nvPr/>
        </p:nvSpPr>
        <p:spPr>
          <a:xfrm>
            <a:off x="1197360" y="9684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4"/>
          <p:cNvSpPr/>
          <p:nvPr/>
        </p:nvSpPr>
        <p:spPr>
          <a:xfrm>
            <a:off x="1072440" y="2060640"/>
            <a:ext cx="67003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Сколько сигнал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у пешеходн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светофора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орожные зна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03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Подзаголовок 55"/>
          <p:cNvGrpSpPr/>
          <p:nvPr/>
        </p:nvGrpSpPr>
        <p:grpSpPr>
          <a:xfrm>
            <a:off x="182520" y="907920"/>
            <a:ext cx="8736120" cy="5029200"/>
            <a:chOff x="182520" y="907920"/>
            <a:chExt cx="8736120" cy="5029200"/>
          </a:xfrm>
        </p:grpSpPr>
        <p:pic>
          <p:nvPicPr>
            <p:cNvPr id="1009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182520" y="907920"/>
              <a:ext cx="87361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192240" y="922320"/>
              <a:ext cx="871524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На какие группы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делятся дорожные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знаки</a:t>
              </a:r>
              <a:r>
                <a:rPr b="0" lang="ru-RU" sz="5400" spc="-1" strike="noStrike" u="sng">
                  <a:solidFill>
                    <a:srgbClr val="0000ff"/>
                  </a:solidFill>
                  <a:uFillTx/>
                  <a:latin typeface="Bookman Old Style"/>
                  <a:hlinkClick r:id="rId3" action="ppaction://hlinksldjump"/>
                </a:rPr>
                <a:t>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indent="358920">
                <a:lnSpc>
                  <a:spcPct val="100000"/>
                </a:lnSpc>
                <a:spcBef>
                  <a:spcPts val="1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indent="35892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12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0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015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016" name="Овал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019" name="Овал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1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024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0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027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028" name="Овал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031" name="Овал 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32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3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5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036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0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039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040" name="Овал 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043" name="Овал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048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Группа 31" descr=""/>
            <p:cNvPicPr/>
            <p:nvPr/>
          </p:nvPicPr>
          <p:blipFill>
            <a:blip r:embed="rId10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99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одзаголовок 55"/>
          <p:cNvGrpSpPr/>
          <p:nvPr/>
        </p:nvGrpSpPr>
        <p:grpSpPr>
          <a:xfrm>
            <a:off x="179280" y="981000"/>
            <a:ext cx="8740800" cy="5029200"/>
            <a:chOff x="179280" y="981000"/>
            <a:chExt cx="8740800" cy="5029200"/>
          </a:xfrm>
        </p:grpSpPr>
        <p:pic>
          <p:nvPicPr>
            <p:cNvPr id="105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179280" y="9810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2"/>
            <p:cNvSpPr/>
            <p:nvPr/>
          </p:nvSpPr>
          <p:spPr>
            <a:xfrm>
              <a:off x="191880" y="995400"/>
              <a:ext cx="8715600" cy="5000400"/>
            </a:xfrm>
            <a:prstGeom prst="rect">
              <a:avLst/>
            </a:prstGeom>
            <a:noFill/>
            <a:ln w="381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0000"/>
                  </a:solidFill>
                  <a:latin typeface="Bookman Old Style"/>
                </a:rPr>
                <a:t>Дисциплина, осторожность и соблюдение правил дорожного движения водителями и пешеходами  - основа безопасного движения на улице!!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39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4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54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Подзаголовок 55"/>
          <p:cNvGrpSpPr/>
          <p:nvPr/>
        </p:nvGrpSpPr>
        <p:grpSpPr>
          <a:xfrm>
            <a:off x="182520" y="907920"/>
            <a:ext cx="8736120" cy="5029200"/>
            <a:chOff x="182520" y="907920"/>
            <a:chExt cx="8736120" cy="5029200"/>
          </a:xfrm>
        </p:grpSpPr>
        <p:pic>
          <p:nvPicPr>
            <p:cNvPr id="1060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182520" y="907920"/>
              <a:ext cx="87361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92240" y="922320"/>
              <a:ext cx="871524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63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0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066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067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0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71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2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4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075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0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078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079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082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83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4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6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087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0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090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091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094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95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96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8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099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Rectangle 53"/>
          <p:cNvSpPr/>
          <p:nvPr/>
        </p:nvSpPr>
        <p:spPr>
          <a:xfrm>
            <a:off x="2716560" y="96840"/>
            <a:ext cx="35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рож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4"/>
          <p:cNvSpPr/>
          <p:nvPr/>
        </p:nvSpPr>
        <p:spPr>
          <a:xfrm>
            <a:off x="421920" y="1341360"/>
            <a:ext cx="834660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окажите знак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оторый запреща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дви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пешеходов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1" action="ppaction://hlinksldjump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107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113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4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116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1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9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0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12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24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5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7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128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13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131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132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135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6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7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140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14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143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144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147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8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49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152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53"/>
          <p:cNvSpPr/>
          <p:nvPr/>
        </p:nvSpPr>
        <p:spPr>
          <a:xfrm>
            <a:off x="2716560" y="96840"/>
            <a:ext cx="35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рожные 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54"/>
          <p:cNvSpPr/>
          <p:nvPr/>
        </p:nvSpPr>
        <p:spPr>
          <a:xfrm>
            <a:off x="1388160" y="1844640"/>
            <a:ext cx="67856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doni MT"/>
              </a:rPr>
              <a:t>Кто долже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doni MT"/>
              </a:rPr>
              <a:t>зн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doni MT"/>
              </a:rPr>
              <a:t>дорожные знаки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doni MT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160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166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169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7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72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73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17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7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8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181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18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184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185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188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9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2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193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19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196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197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200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01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02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4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205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Rectangle 53"/>
          <p:cNvSpPr/>
          <p:nvPr/>
        </p:nvSpPr>
        <p:spPr>
          <a:xfrm>
            <a:off x="1197360" y="96840"/>
            <a:ext cx="66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а перехода улиц и до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54"/>
          <p:cNvSpPr/>
          <p:nvPr/>
        </p:nvSpPr>
        <p:spPr>
          <a:xfrm>
            <a:off x="1258920" y="1844640"/>
            <a:ext cx="6913440" cy="34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окажи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зна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«Велосипед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дорожка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1" action="ppaction://hlinksldjump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213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219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0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222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22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225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226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2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22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30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1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3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34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3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7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38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3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241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42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3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246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24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249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250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253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4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55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7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258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2" name="Rectangle 53"/>
          <p:cNvSpPr/>
          <p:nvPr/>
        </p:nvSpPr>
        <p:spPr>
          <a:xfrm>
            <a:off x="2613240" y="96840"/>
            <a:ext cx="37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Дорожные  зна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54"/>
          <p:cNvSpPr/>
          <p:nvPr/>
        </p:nvSpPr>
        <p:spPr>
          <a:xfrm>
            <a:off x="826920" y="1700280"/>
            <a:ext cx="763272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ак</a:t>
            </a: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называется этот дорожный знак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13" descr="http://pdd.ua/r/r/5390C28E-0274-45F5-BDFB-E2ECD92A317B/1.33_b.gif"/>
          <p:cNvPicPr/>
          <p:nvPr/>
        </p:nvPicPr>
        <p:blipFill>
          <a:blip r:embed="rId11"/>
          <a:stretch/>
        </p:blipFill>
        <p:spPr>
          <a:xfrm>
            <a:off x="571680" y="3286080"/>
            <a:ext cx="29718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267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9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273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Игра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Bookman Old Style"/>
                </a:rPr>
                <a:t>на внимание  - «Светофор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276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27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279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280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28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4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85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7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88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9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91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92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295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6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7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9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00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0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03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04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0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307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08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09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1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312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4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319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1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325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328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33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33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332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3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33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36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3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9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340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34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34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344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347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48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1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52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5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5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56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359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60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61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3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364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8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54"/>
          <p:cNvSpPr/>
          <p:nvPr/>
        </p:nvSpPr>
        <p:spPr>
          <a:xfrm>
            <a:off x="826920" y="1844640"/>
            <a:ext cx="72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II 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гей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«Ты мне я теб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37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37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Bookman Old Style"/>
                </a:rPr>
                <a:t>Игра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Bookman Old Style"/>
                </a:rPr>
                <a:t>для команд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Bookman Old Style"/>
                </a:rPr>
                <a:t>«Перейди улицу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38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38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38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38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38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8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9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39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39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39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39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9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40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40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40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40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40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41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1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1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1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3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424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6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430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433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43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436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437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3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44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1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2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4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445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44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448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449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1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452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53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54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6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457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45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460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461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3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464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5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66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8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69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Rectangle 54"/>
          <p:cNvSpPr/>
          <p:nvPr/>
        </p:nvSpPr>
        <p:spPr>
          <a:xfrm>
            <a:off x="826920" y="1844640"/>
            <a:ext cx="727416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III 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гей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«Каждый за себ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476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482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3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4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485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48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488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489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1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49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93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94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6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497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49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500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501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3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504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5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8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509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51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512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513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5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516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17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18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0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521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3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5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54"/>
          <p:cNvSpPr/>
          <p:nvPr/>
        </p:nvSpPr>
        <p:spPr>
          <a:xfrm>
            <a:off x="826920" y="1844640"/>
            <a:ext cx="727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IV   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гей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«Дальше, дальше, дальше 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29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535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538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54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54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542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4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54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46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9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550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55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55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554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6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557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58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1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562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56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565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566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8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569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70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1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3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574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9" name="Picture 56" descr="90121686824874"/>
          <p:cNvPicPr/>
          <p:nvPr/>
        </p:nvPicPr>
        <p:blipFill>
          <a:blip r:embed="rId10"/>
          <a:stretch/>
        </p:blipFill>
        <p:spPr>
          <a:xfrm>
            <a:off x="2484360" y="1052640"/>
            <a:ext cx="3810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0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56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Bookman Old Style"/>
                </a:rPr>
                <a:t>I   </a:t>
              </a:r>
              <a:r>
                <a:rPr b="1" lang="ru-RU" sz="6600" spc="-1" strike="noStrike">
                  <a:solidFill>
                    <a:srgbClr val="000000"/>
                  </a:solidFill>
                  <a:latin typeface="Bookman Old Style"/>
                </a:rPr>
                <a:t>гейм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000000"/>
                  </a:solidFill>
                  <a:latin typeface="Bookman Old Style"/>
                </a:rPr>
                <a:t>«Вопрос – ответ»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59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2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3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6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8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1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4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5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78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9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3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6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7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90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1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2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5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8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58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59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59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59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59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9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59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9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0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60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60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60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60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0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61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1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61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61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61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61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62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2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62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1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2" name="Picture 56" descr="88cc86074d0d8cc0-larg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539640" y="98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57" descr="14006437--1514318217781195063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76720" y="907920"/>
            <a:ext cx="2636640" cy="266868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58" descr="net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012000" y="907920"/>
            <a:ext cx="2946240" cy="285120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59" descr="1_384_origina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0920" y="3429000"/>
            <a:ext cx="2886120" cy="240660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60" descr="675px-Zeichen_101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643280" y="3357720"/>
            <a:ext cx="30704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8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639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1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4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645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7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48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5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5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2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4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65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6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660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66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66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664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6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667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672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67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675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676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7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8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679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0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81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684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8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54"/>
          <p:cNvSpPr/>
          <p:nvPr/>
        </p:nvSpPr>
        <p:spPr>
          <a:xfrm>
            <a:off x="1602000" y="2637000"/>
            <a:ext cx="57783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Bodoni MT Black"/>
              </a:rPr>
              <a:t>Правильно</a:t>
            </a:r>
            <a:r>
              <a:rPr b="0" lang="ru-RU" sz="6600" spc="-1" strike="noStrike" u="sng">
                <a:solidFill>
                  <a:srgbClr val="0000ff"/>
                </a:solidFill>
                <a:uFillTx/>
                <a:latin typeface="Bodoni MT Black"/>
                <a:hlinkClick r:id="rId10" action="ppaction://hlinksldjump"/>
              </a:rPr>
              <a:t>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69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69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70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70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70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70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70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0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1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1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1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1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72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2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2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72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72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72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72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3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73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3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73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54"/>
          <p:cNvSpPr/>
          <p:nvPr/>
        </p:nvSpPr>
        <p:spPr>
          <a:xfrm>
            <a:off x="1908000" y="2894040"/>
            <a:ext cx="579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doni MT Black"/>
              </a:rPr>
              <a:t>Ответ не верен!!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4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745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751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3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754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75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757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758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5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76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62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63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66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6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9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0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773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74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75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7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778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78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781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782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785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6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87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9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790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4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55" descr="34464537_preduprejdaychie_023_big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900000" y="1125360"/>
            <a:ext cx="2376720" cy="210852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56" descr="400_F_3962898_oMdObRhrV2uROKXoaFKMhhL1D2j2z2ue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156360" y="3429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57" descr="picture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68360" y="3500280"/>
            <a:ext cx="3108240" cy="233208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59" descr="zapreshaychie_013_big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276720" y="33577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60" descr="net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219640" y="1341360"/>
            <a:ext cx="187164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80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180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81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81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81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81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181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82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82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82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82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2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183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3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3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3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3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3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3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4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184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4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4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84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1" name="Rectangle 53"/>
          <p:cNvSpPr/>
          <p:nvPr/>
        </p:nvSpPr>
        <p:spPr>
          <a:xfrm>
            <a:off x="4410000" y="968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54"/>
          <p:cNvSpPr/>
          <p:nvPr/>
        </p:nvSpPr>
        <p:spPr>
          <a:xfrm>
            <a:off x="2175120" y="3246480"/>
            <a:ext cx="479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estival.1september.ru/subjects/12/?n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0" lang="ru-RU" sz="200" spc="-1" strike="noStrike" u="sng">
                  <a:solidFill>
                    <a:srgbClr val="0000ff"/>
                  </a:solidFill>
                  <a:uFillTx/>
                  <a:latin typeface="Calibri"/>
                  <a:hlinkClick r:id="rId2" action="ppaction://hlinksldjump"/>
                </a:rPr>
                <a:t>Слайд 24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Подзаголовок 55"/>
          <p:cNvGrpSpPr/>
          <p:nvPr/>
        </p:nvGrpSpPr>
        <p:grpSpPr>
          <a:xfrm>
            <a:off x="182520" y="907920"/>
            <a:ext cx="8736120" cy="5029200"/>
            <a:chOff x="182520" y="907920"/>
            <a:chExt cx="8736120" cy="5029200"/>
          </a:xfrm>
        </p:grpSpPr>
        <p:pic>
          <p:nvPicPr>
            <p:cNvPr id="208" name="Подзаголовок 55" descr=""/>
            <p:cNvPicPr/>
            <p:nvPr/>
          </p:nvPicPr>
          <p:blipFill>
            <a:blip r:embed="rId3"/>
            <a:stretch/>
          </p:blipFill>
          <p:spPr>
            <a:xfrm>
              <a:off x="182520" y="907920"/>
              <a:ext cx="87361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92240" y="922320"/>
              <a:ext cx="8715240" cy="50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5" name="Овал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218" name="Овал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7" name="Овал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230" name="Овал 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39" name="Овал 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242" name="Овал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Группа 31" descr=""/>
            <p:cNvPicPr/>
            <p:nvPr/>
          </p:nvPicPr>
          <p:blipFill>
            <a:blip r:embed="rId10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91">
            <a:hlinkClick r:id="rId11" action="ppaction://hlinksldjump"/>
          </p:cNvPr>
          <p:cNvSpPr/>
          <p:nvPr/>
        </p:nvSpPr>
        <p:spPr>
          <a:xfrm>
            <a:off x="2050920" y="4221000"/>
            <a:ext cx="1008360" cy="93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92">
            <a:hlinkClick r:id="rId12" action="ppaction://hlinksldjump"/>
          </p:cNvPr>
          <p:cNvSpPr/>
          <p:nvPr/>
        </p:nvSpPr>
        <p:spPr>
          <a:xfrm>
            <a:off x="2050920" y="3284640"/>
            <a:ext cx="1008360" cy="93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93">
            <a:hlinkClick r:id="rId13" action="ppaction://hlinksldjump"/>
          </p:cNvPr>
          <p:cNvSpPr/>
          <p:nvPr/>
        </p:nvSpPr>
        <p:spPr>
          <a:xfrm>
            <a:off x="2050920" y="2349360"/>
            <a:ext cx="1008360" cy="935280"/>
          </a:xfrm>
          <a:prstGeom prst="rect">
            <a:avLst/>
          </a:prstGeom>
          <a:solidFill>
            <a:srgbClr val="d5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94">
            <a:hlinkClick r:id="rId14" action="ppaction://hlinksldjump"/>
          </p:cNvPr>
          <p:cNvSpPr/>
          <p:nvPr/>
        </p:nvSpPr>
        <p:spPr>
          <a:xfrm>
            <a:off x="2050920" y="1413000"/>
            <a:ext cx="100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5">
            <a:hlinkClick r:id="rId15" action="ppaction://hlinksldjump"/>
          </p:cNvPr>
          <p:cNvSpPr/>
          <p:nvPr/>
        </p:nvSpPr>
        <p:spPr>
          <a:xfrm>
            <a:off x="3059280" y="422100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6">
            <a:hlinkClick r:id="rId16" action="ppaction://hlinksldjump"/>
          </p:cNvPr>
          <p:cNvSpPr/>
          <p:nvPr/>
        </p:nvSpPr>
        <p:spPr>
          <a:xfrm>
            <a:off x="4067280" y="4221000"/>
            <a:ext cx="1008000" cy="93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7">
            <a:hlinkClick r:id="rId17" action="ppaction://hlinksldjump"/>
          </p:cNvPr>
          <p:cNvSpPr/>
          <p:nvPr/>
        </p:nvSpPr>
        <p:spPr>
          <a:xfrm>
            <a:off x="5076720" y="4221000"/>
            <a:ext cx="1008000" cy="93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98">
            <a:hlinkClick r:id="rId18" action="ppaction://hlinksldjump"/>
          </p:cNvPr>
          <p:cNvSpPr/>
          <p:nvPr/>
        </p:nvSpPr>
        <p:spPr>
          <a:xfrm>
            <a:off x="6084720" y="4221000"/>
            <a:ext cx="1008360" cy="935280"/>
          </a:xfrm>
          <a:prstGeom prst="rect">
            <a:avLst/>
          </a:prstGeom>
          <a:solidFill>
            <a:srgbClr val="d5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9">
            <a:hlinkClick r:id="rId19" action="ppaction://hlinksldjump"/>
          </p:cNvPr>
          <p:cNvSpPr/>
          <p:nvPr/>
        </p:nvSpPr>
        <p:spPr>
          <a:xfrm>
            <a:off x="3059280" y="3284640"/>
            <a:ext cx="1008000" cy="93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0">
            <a:hlinkClick r:id="rId20" action="ppaction://hlinksldjump"/>
          </p:cNvPr>
          <p:cNvSpPr/>
          <p:nvPr/>
        </p:nvSpPr>
        <p:spPr>
          <a:xfrm>
            <a:off x="4067280" y="3284640"/>
            <a:ext cx="1008000" cy="934920"/>
          </a:xfrm>
          <a:prstGeom prst="rect">
            <a:avLst/>
          </a:prstGeom>
          <a:solidFill>
            <a:srgbClr val="d5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1">
            <a:hlinkClick r:id="rId21" action="ppaction://hlinksldjump"/>
          </p:cNvPr>
          <p:cNvSpPr/>
          <p:nvPr/>
        </p:nvSpPr>
        <p:spPr>
          <a:xfrm>
            <a:off x="5076720" y="3284640"/>
            <a:ext cx="1008000" cy="93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02">
            <a:hlinkClick r:id="rId22" action="ppaction://hlinksldjump"/>
          </p:cNvPr>
          <p:cNvSpPr/>
          <p:nvPr/>
        </p:nvSpPr>
        <p:spPr>
          <a:xfrm>
            <a:off x="6084720" y="3284640"/>
            <a:ext cx="100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03">
            <a:hlinkClick r:id="rId23" action="ppaction://hlinksldjump"/>
          </p:cNvPr>
          <p:cNvSpPr/>
          <p:nvPr/>
        </p:nvSpPr>
        <p:spPr>
          <a:xfrm>
            <a:off x="3059280" y="2349360"/>
            <a:ext cx="1008000" cy="93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4">
            <a:hlinkClick r:id="rId24" action="ppaction://hlinksldjump"/>
          </p:cNvPr>
          <p:cNvSpPr/>
          <p:nvPr/>
        </p:nvSpPr>
        <p:spPr>
          <a:xfrm>
            <a:off x="4067280" y="2349360"/>
            <a:ext cx="100800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05">
            <a:hlinkClick r:id="rId25" action="ppaction://hlinksldjump"/>
          </p:cNvPr>
          <p:cNvSpPr/>
          <p:nvPr/>
        </p:nvSpPr>
        <p:spPr>
          <a:xfrm>
            <a:off x="5076720" y="2349360"/>
            <a:ext cx="1008000" cy="93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6"/>
          <p:cNvSpPr/>
          <p:nvPr/>
        </p:nvSpPr>
        <p:spPr>
          <a:xfrm>
            <a:off x="6084720" y="2349360"/>
            <a:ext cx="100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7">
            <a:hlinkClick r:id="rId26" action="ppaction://hlinksldjump"/>
          </p:cNvPr>
          <p:cNvSpPr/>
          <p:nvPr/>
        </p:nvSpPr>
        <p:spPr>
          <a:xfrm>
            <a:off x="3059280" y="1413000"/>
            <a:ext cx="1008000" cy="934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8">
            <a:hlinkClick r:id="rId27" action="ppaction://hlinksldjump"/>
          </p:cNvPr>
          <p:cNvSpPr/>
          <p:nvPr/>
        </p:nvSpPr>
        <p:spPr>
          <a:xfrm>
            <a:off x="4067280" y="1413000"/>
            <a:ext cx="1008000" cy="934920"/>
          </a:xfrm>
          <a:prstGeom prst="rect">
            <a:avLst/>
          </a:prstGeom>
          <a:solidFill>
            <a:srgbClr val="d5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9">
            <a:hlinkClick r:id="rId28" action="ppaction://hlinksldjump"/>
          </p:cNvPr>
          <p:cNvSpPr/>
          <p:nvPr/>
        </p:nvSpPr>
        <p:spPr>
          <a:xfrm>
            <a:off x="5076720" y="1413000"/>
            <a:ext cx="1008000" cy="93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10">
            <a:hlinkClick r:id="rId29" action="ppaction://hlinksldjump"/>
          </p:cNvPr>
          <p:cNvSpPr/>
          <p:nvPr/>
        </p:nvSpPr>
        <p:spPr>
          <a:xfrm>
            <a:off x="6084720" y="1413000"/>
            <a:ext cx="100836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11" descr="svetoforik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7524720" y="4076640"/>
            <a:ext cx="1198440" cy="134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12" descr="svetoforik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539640" y="4292640"/>
            <a:ext cx="1198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гналы светофора, дорожная раз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75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281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Bookman Old Style"/>
                </a:rPr>
                <a:t>Какие сигналы пешеходного светофора вы знаете, что они обозначают</a:t>
              </a:r>
              <a:r>
                <a:rPr b="0" lang="ru-RU" sz="6000" spc="-1" strike="noStrike" u="sng">
                  <a:solidFill>
                    <a:srgbClr val="0000ff"/>
                  </a:solidFill>
                  <a:uFillTx/>
                  <a:latin typeface="Bookman Old Style"/>
                  <a:hlinkClick r:id="rId3" action="ppaction://hlinksldjump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84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8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87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88" name="Овал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291" name="Овал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5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96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9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99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00" name="Овал 6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303" name="Овал 6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4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5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08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1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11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12" name="Овал 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315" name="Овал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16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7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20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Группа 31" descr=""/>
            <p:cNvPicPr/>
            <p:nvPr/>
          </p:nvPicPr>
          <p:blipFill>
            <a:blip r:embed="rId10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гналы светофора, дорожная раз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26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332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35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3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38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39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34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3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4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47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4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50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51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354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5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6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59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6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62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63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366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7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8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71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128"/>
          <p:cNvSpPr/>
          <p:nvPr/>
        </p:nvSpPr>
        <p:spPr>
          <a:xfrm>
            <a:off x="159120" y="1511280"/>
            <a:ext cx="853380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Как на проезже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части улиц и доро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обозначе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ешеходный переход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гналы светофора, дорожная раз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78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384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87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8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90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91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39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6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8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99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0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02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03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406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07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8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11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1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14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15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418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9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0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23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Rectangle 53"/>
          <p:cNvSpPr/>
          <p:nvPr/>
        </p:nvSpPr>
        <p:spPr>
          <a:xfrm>
            <a:off x="1279440" y="1484280"/>
            <a:ext cx="6343560" cy="37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Как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светофоры в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Bookman Old Style"/>
              </a:rPr>
              <a:t>знаете</a:t>
            </a:r>
            <a:r>
              <a:rPr b="0" lang="ru-RU" sz="60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гналы светофора, дорожная раз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30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436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39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4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42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43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44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7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8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51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5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54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55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7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458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59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63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6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66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67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6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470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1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2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75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Rectangle 53"/>
          <p:cNvSpPr/>
          <p:nvPr/>
        </p:nvSpPr>
        <p:spPr>
          <a:xfrm>
            <a:off x="826920" y="1844640"/>
            <a:ext cx="756288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Где и к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должны ход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ешеходы по улице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37"/>
          <p:cNvSpPr/>
          <p:nvPr/>
        </p:nvSpPr>
        <p:spPr>
          <a:xfrm>
            <a:off x="0" y="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игналы светофора, дорожная разм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Группа 70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82" name="Полилиния 71"/>
            <p:cNvSpPr/>
            <p:nvPr/>
          </p:nvSpPr>
          <p:spPr>
            <a:xfrm rot="10800000">
              <a:off x="8453880" y="115920"/>
              <a:ext cx="4698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Хорда 73"/>
            <p:cNvSpPr/>
            <p:nvPr/>
          </p:nvSpPr>
          <p:spPr>
            <a:xfrm rot="10800000">
              <a:off x="8517960" y="129600"/>
              <a:ext cx="34056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Хорда 74"/>
            <p:cNvSpPr/>
            <p:nvPr/>
          </p:nvSpPr>
          <p:spPr>
            <a:xfrm rot="18264000">
              <a:off x="8474040" y="142200"/>
              <a:ext cx="420840" cy="40428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f62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Подзаголовок 55"/>
          <p:cNvGrpSpPr/>
          <p:nvPr/>
        </p:nvGrpSpPr>
        <p:grpSpPr>
          <a:xfrm>
            <a:off x="201600" y="914400"/>
            <a:ext cx="8740800" cy="5029200"/>
            <a:chOff x="201600" y="914400"/>
            <a:chExt cx="8740800" cy="5029200"/>
          </a:xfrm>
        </p:grpSpPr>
        <p:pic>
          <p:nvPicPr>
            <p:cNvPr id="488" name="Подзаголовок 55" descr=""/>
            <p:cNvPicPr/>
            <p:nvPr/>
          </p:nvPicPr>
          <p:blipFill>
            <a:blip r:embed="rId2"/>
            <a:stretch/>
          </p:blipFill>
          <p:spPr>
            <a:xfrm>
              <a:off x="201600" y="914400"/>
              <a:ext cx="8740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214200" y="928800"/>
              <a:ext cx="8715600" cy="50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Группа 47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91" name="Полилиния 49"/>
            <p:cNvSpPr/>
            <p:nvPr/>
          </p:nvSpPr>
          <p:spPr>
            <a:xfrm>
              <a:off x="177840" y="6143760"/>
              <a:ext cx="50364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9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94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95" name="Овал 6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Овал 4"/>
                <p:cNvGrpSpPr/>
                <p:nvPr/>
              </p:nvGrpSpPr>
              <p:grpSpPr>
                <a:xfrm>
                  <a:off x="185400" y="6236640"/>
                  <a:ext cx="493200" cy="483120"/>
                  <a:chOff x="185400" y="6236640"/>
                  <a:chExt cx="493200" cy="483120"/>
                </a:xfrm>
              </p:grpSpPr>
              <p:pic>
                <p:nvPicPr>
                  <p:cNvPr id="49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9" name=""/>
                  <p:cNvSpPr/>
                  <p:nvPr/>
                </p:nvSpPr>
                <p:spPr>
                  <a:xfrm>
                    <a:off x="275040" y="6326280"/>
                    <a:ext cx="31932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2" name="Группа 62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03" name="Полилиния 63"/>
            <p:cNvSpPr/>
            <p:nvPr/>
          </p:nvSpPr>
          <p:spPr>
            <a:xfrm>
              <a:off x="842976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0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06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07" name="Овал 6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Овал 69"/>
                <p:cNvGrpSpPr/>
                <p:nvPr/>
              </p:nvGrpSpPr>
              <p:grpSpPr>
                <a:xfrm>
                  <a:off x="8443080" y="6236640"/>
                  <a:ext cx="487080" cy="483120"/>
                  <a:chOff x="8443080" y="6236640"/>
                  <a:chExt cx="487080" cy="483120"/>
                </a:xfrm>
              </p:grpSpPr>
              <p:pic>
                <p:nvPicPr>
                  <p:cNvPr id="510" name="Овал 6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4308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11" name=""/>
                  <p:cNvSpPr/>
                  <p:nvPr/>
                </p:nvSpPr>
                <p:spPr>
                  <a:xfrm>
                    <a:off x="8525880" y="6326280"/>
                    <a:ext cx="3225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Группа 77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15" name="Полилиния 78"/>
            <p:cNvSpPr/>
            <p:nvPr/>
          </p:nvSpPr>
          <p:spPr>
            <a:xfrm>
              <a:off x="7786800" y="6143760"/>
              <a:ext cx="503280" cy="57168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1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18" name="Овал 83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19" name="Овал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Овал 84"/>
                <p:cNvGrpSpPr/>
                <p:nvPr/>
              </p:nvGrpSpPr>
              <p:grpSpPr>
                <a:xfrm>
                  <a:off x="7800120" y="6236640"/>
                  <a:ext cx="487080" cy="483120"/>
                  <a:chOff x="7800120" y="6236640"/>
                  <a:chExt cx="487080" cy="483120"/>
                </a:xfrm>
              </p:grpSpPr>
              <p:pic>
                <p:nvPicPr>
                  <p:cNvPr id="522" name="Овал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00120" y="6236640"/>
                    <a:ext cx="487080" cy="4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3" name=""/>
                  <p:cNvSpPr/>
                  <p:nvPr/>
                </p:nvSpPr>
                <p:spPr>
                  <a:xfrm>
                    <a:off x="7885080" y="6326280"/>
                    <a:ext cx="318960" cy="31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4" name="Хорда 81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prstGeom prst="pie">
                <a:avLst/>
              </a:pr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Хорда 82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prstGeom prst="pie">
                <a:avLst/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Группа 85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27" name="Полилиния 86"/>
            <p:cNvSpPr/>
            <p:nvPr/>
          </p:nvSpPr>
          <p:spPr>
            <a:xfrm rot="10800000">
              <a:off x="199080" y="115920"/>
              <a:ext cx="475200" cy="550800"/>
            </a:xfrm>
            <a:prstGeom prst="pie">
              <a:avLst/>
            </a:prstGeom>
            <a:gradFill rotWithShape="0">
              <a:gsLst>
                <a:gs pos="0">
                  <a:srgbClr val="4f6228"/>
                </a:gs>
                <a:gs pos="50000">
                  <a:srgbClr val="ffffff"/>
                </a:gs>
                <a:gs pos="100000">
                  <a:srgbClr val="4f6228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Хорда 88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Хорда 89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prstGeom prst="pi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53"/>
          <p:cNvSpPr/>
          <p:nvPr/>
        </p:nvSpPr>
        <p:spPr>
          <a:xfrm>
            <a:off x="611280" y="1197000"/>
            <a:ext cx="776592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В каких мест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ешеходам разрешае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man Old Style"/>
              </a:rPr>
              <a:t>переходить улицу</a:t>
            </a:r>
            <a:r>
              <a:rPr b="0" lang="ru-RU" sz="5400" spc="-1" strike="noStrike" u="sng">
                <a:solidFill>
                  <a:srgbClr val="0000ff"/>
                </a:solidFill>
                <a:uFillTx/>
                <a:latin typeface="Bookman Old Style"/>
                <a:hlinkClick r:id="rId10" action="ppaction://hlinksldjump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3:55:33Z</dcterms:created>
  <dc:creator>Наталья Ивановна</dc:creator>
  <dc:description/>
  <dc:language>en-US</dc:language>
  <cp:lastModifiedBy>user</cp:lastModifiedBy>
  <dcterms:modified xsi:type="dcterms:W3CDTF">2014-11-19T18:23:31Z</dcterms:modified>
  <cp:revision>3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801049</vt:lpwstr>
  </property>
</Properties>
</file>